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5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ct" ContentType="image/x-pict"/>
  <Override PartName="/ppt/media/image9.pct" ContentType="image/x-pict"/>
  <Override PartName="/ppt/media/image10.pct" ContentType="image/x-pict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400"/>
                </a:solidFill>
                <a:latin typeface="Comic Sans MS"/>
              </a:rPr>
              <a:t>Click to move the slide</a:t>
            </a: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6B1B9-9988-4899-B854-250DC7C5D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2FE9-78C8-4230-B011-3D645421E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960480" y="712800"/>
            <a:ext cx="4938840" cy="342108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718F-B271-43D9-B456-2FC267543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960480" y="712800"/>
            <a:ext cx="4938840" cy="342108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4906-8E76-4505-9369-943CF65C0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960480" y="712800"/>
            <a:ext cx="4938840" cy="342108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44B8-9121-4C75-98C9-6B398B1E4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960480" y="712800"/>
            <a:ext cx="4938840" cy="342108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AF92-8B36-4419-BF78-388D1A7E6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960480" y="712800"/>
            <a:ext cx="4938840" cy="342108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2793-31EF-4A03-AD4F-34A310CFF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960480" y="712800"/>
            <a:ext cx="4938840" cy="342108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09703-BD61-4F01-8C06-BA47A2015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960480" y="712800"/>
            <a:ext cx="4938840" cy="342108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C2A6-B205-40DE-B58E-1E3190C13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960480" y="712800"/>
            <a:ext cx="4938840" cy="342108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A401-F3FC-4593-B47A-B333F9B6E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960480" y="712800"/>
            <a:ext cx="4938840" cy="342108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E149-ECAB-4E11-9355-B96B12BC5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957240" y="712800"/>
            <a:ext cx="4943520" cy="342252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4347720"/>
            <a:ext cx="50292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13C4-A070-4AA0-9826-39712B76C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960480" y="712800"/>
            <a:ext cx="4938840" cy="342108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7C4A-0ADA-4B5F-905F-41DE67037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960480" y="712800"/>
            <a:ext cx="4938840" cy="342108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5171-B83E-42C4-B289-278597B1B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960480" y="712800"/>
            <a:ext cx="4938840" cy="342108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1C78-AAF9-4682-8801-EB799A0EC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960480" y="712800"/>
            <a:ext cx="4938840" cy="342108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44CF-8F35-4E59-9D2A-B1F0779DC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960480" y="712800"/>
            <a:ext cx="4938840" cy="342108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65FE-7A1D-4109-AD01-7317C3AB3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54FC-69A1-4D58-8436-A283757A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824E-904A-4AF7-A8BE-471A37657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47EC-FD2D-41FB-B095-FBBD0007C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8364-76FD-46D2-8BB4-DC9BFD06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A45D-E150-47DF-966C-7312E06B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BFF8-983B-44EB-B2E5-225CC51E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69DE-82B5-4025-8B72-DF4DDE7D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2583-B5D8-482A-99DF-9ACDDB13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4552-EC63-45FA-8AAD-3FFAD44B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F6A8-C573-4815-B9A7-F7F2F566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DB3A-9866-4FE1-AFD1-16949E07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400"/>
                </a:solidFill>
                <a:latin typeface="Comic Sans MS"/>
              </a:rPr>
              <a:t>Click to edit the title text format</a:t>
            </a: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04460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55308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41880" y="65530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CDAE-E519-4247-884C-0FDA025ED727}" type="slidenum">
              <a:rPr b="1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30040" y="139680"/>
            <a:ext cx="1843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0" y="0"/>
            <a:ext cx="781200" cy="8064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922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flipV="1">
            <a:off x="743040" y="457200"/>
            <a:ext cx="901044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 txBox="1"/>
          <p:nvPr/>
        </p:nvSpPr>
        <p:spPr>
          <a:xfrm>
            <a:off x="3581280" y="76320"/>
            <a:ext cx="6158160" cy="45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Biologia Cellulare e Molecolare      GeneticaII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9.pct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53880" y="685440"/>
            <a:ext cx="4870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202"/>
                </a:solidFill>
                <a:latin typeface="Comic Sans MS"/>
              </a:rPr>
              <a:t>THALASSEMIA</a:t>
            </a:r>
            <a:endParaRPr b="1" lang="en-US" sz="36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54" name=""/>
          <p:cNvSpPr/>
          <p:nvPr/>
        </p:nvSpPr>
        <p:spPr>
          <a:xfrm>
            <a:off x="3706200" y="5791320"/>
            <a:ext cx="15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zion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33400" y="1447920"/>
            <a:ext cx="5778720" cy="387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400"/>
                </a:solidFill>
                <a:latin typeface="Symbol"/>
                <a:ea typeface="Symbol"/>
              </a:rPr>
              <a:t></a:t>
            </a:r>
            <a:r>
              <a:rPr b="1" lang="en-US" sz="2800" spc="-1" strike="noStrike">
                <a:solidFill>
                  <a:srgbClr val="ff0400"/>
                </a:solidFill>
                <a:latin typeface="Comic Sans MS"/>
              </a:rPr>
              <a:t>Thalassemia</a:t>
            </a: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150840" y="1295280"/>
            <a:ext cx="9097560" cy="747720"/>
            <a:chOff x="150840" y="1295280"/>
            <a:chExt cx="9097560" cy="747720"/>
          </a:xfrm>
        </p:grpSpPr>
        <p:sp>
          <p:nvSpPr>
            <p:cNvPr id="502" name=""/>
            <p:cNvSpPr/>
            <p:nvPr/>
          </p:nvSpPr>
          <p:spPr>
            <a:xfrm>
              <a:off x="973440" y="1510920"/>
              <a:ext cx="18396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369880" y="1901520"/>
              <a:ext cx="687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433400" y="1760400"/>
              <a:ext cx="534960" cy="210960"/>
            </a:xfrm>
            <a:prstGeom prst="cube">
              <a:avLst>
                <a:gd name="adj" fmla="val 25000"/>
              </a:avLst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121360" y="1760400"/>
              <a:ext cx="534960" cy="210960"/>
            </a:xfrm>
            <a:prstGeom prst="cube">
              <a:avLst>
                <a:gd name="adj" fmla="val 25000"/>
              </a:avLst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081120" y="1760400"/>
              <a:ext cx="381600" cy="210960"/>
            </a:xfrm>
            <a:prstGeom prst="cube">
              <a:avLst>
                <a:gd name="adj" fmla="val 250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185240" y="1760400"/>
              <a:ext cx="534600" cy="210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254800" y="1760400"/>
              <a:ext cx="534600" cy="210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133440" y="1760400"/>
              <a:ext cx="534600" cy="210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193200" y="1298160"/>
              <a:ext cx="31320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386600" y="1407960"/>
              <a:ext cx="64548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omic Sans MS"/>
                </a:rPr>
                <a:t></a:t>
              </a:r>
              <a:r>
                <a:rPr b="1" lang="en-US" sz="19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920560" y="1384200"/>
              <a:ext cx="56304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163280" y="1350720"/>
              <a:ext cx="42912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258760" y="1350720"/>
              <a:ext cx="35136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133440" y="204300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185240" y="2043000"/>
              <a:ext cx="38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330400" y="2043000"/>
              <a:ext cx="383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027040" y="1407960"/>
              <a:ext cx="49284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50840" y="1295280"/>
              <a:ext cx="196992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Raggruppament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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 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11p1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509000" y="2043000"/>
              <a:ext cx="38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196960" y="2043000"/>
              <a:ext cx="38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-11880" y="2286000"/>
            <a:ext cx="919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riginata principalmente da mutazioni il cui effetto attraverso meccanis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versi e’ quello di avere un deficit di catene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. I siti di mutazione so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ratteristici di una popol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2599920" y="3703320"/>
            <a:ext cx="5520240" cy="1903680"/>
            <a:chOff x="2599920" y="3703320"/>
            <a:chExt cx="5520240" cy="1903680"/>
          </a:xfrm>
        </p:grpSpPr>
        <p:grpSp>
          <p:nvGrpSpPr>
            <p:cNvPr id="524" name=""/>
            <p:cNvGrpSpPr/>
            <p:nvPr/>
          </p:nvGrpSpPr>
          <p:grpSpPr>
            <a:xfrm>
              <a:off x="2741400" y="4419720"/>
              <a:ext cx="5378760" cy="307080"/>
              <a:chOff x="2741400" y="4419720"/>
              <a:chExt cx="5378760" cy="307080"/>
            </a:xfrm>
          </p:grpSpPr>
          <p:sp>
            <p:nvSpPr>
              <p:cNvPr id="525" name=""/>
              <p:cNvSpPr/>
              <p:nvPr/>
            </p:nvSpPr>
            <p:spPr>
              <a:xfrm>
                <a:off x="2741400" y="4597560"/>
                <a:ext cx="53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222720" y="4457880"/>
                <a:ext cx="799200" cy="2664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915720" y="4457880"/>
                <a:ext cx="1014480" cy="2664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339966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57240" y="4457880"/>
                <a:ext cx="799200" cy="2664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250240" y="4457880"/>
                <a:ext cx="1121040" cy="2664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339966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265080" y="4457880"/>
                <a:ext cx="1121040" cy="2664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746800" y="4419720"/>
                <a:ext cx="32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5’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799400" y="4419720"/>
                <a:ext cx="32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3’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188520" y="4446720"/>
                <a:ext cx="718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esone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530240" y="4446720"/>
                <a:ext cx="718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esone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342840" y="4446720"/>
                <a:ext cx="718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esone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809520" y="4446720"/>
                <a:ext cx="834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introne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327640" y="4446720"/>
                <a:ext cx="834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introne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2599920" y="3808440"/>
              <a:ext cx="627480" cy="784800"/>
              <a:chOff x="2599920" y="3808440"/>
              <a:chExt cx="627480" cy="784800"/>
            </a:xfrm>
          </p:grpSpPr>
          <p:sp>
            <p:nvSpPr>
              <p:cNvPr id="539" name=""/>
              <p:cNvSpPr/>
              <p:nvPr/>
            </p:nvSpPr>
            <p:spPr>
              <a:xfrm rot="418800">
                <a:off x="2641680" y="3838680"/>
                <a:ext cx="543600" cy="723960"/>
              </a:xfrm>
              <a:prstGeom prst="lightningBolt">
                <a:avLst/>
              </a:prstGeom>
              <a:gradFill rotWithShape="0">
                <a:gsLst>
                  <a:gs pos="0">
                    <a:srgbClr val="ff0202"/>
                  </a:gs>
                  <a:gs pos="50000">
                    <a:srgbClr val="ffdd00"/>
                  </a:gs>
                  <a:gs pos="100000">
                    <a:srgbClr val="ff0202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754000" y="38703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3543840" y="3703680"/>
              <a:ext cx="2826720" cy="784800"/>
              <a:chOff x="3543840" y="3703680"/>
              <a:chExt cx="2826720" cy="784800"/>
            </a:xfrm>
          </p:grpSpPr>
          <p:sp>
            <p:nvSpPr>
              <p:cNvPr id="542" name=""/>
              <p:cNvSpPr/>
              <p:nvPr/>
            </p:nvSpPr>
            <p:spPr>
              <a:xfrm rot="418800">
                <a:off x="4119480" y="3733920"/>
                <a:ext cx="543600" cy="723960"/>
              </a:xfrm>
              <a:prstGeom prst="lightningBolt">
                <a:avLst/>
              </a:prstGeom>
              <a:gradFill rotWithShape="0">
                <a:gsLst>
                  <a:gs pos="0">
                    <a:srgbClr val="0a0eff"/>
                  </a:gs>
                  <a:gs pos="50000">
                    <a:srgbClr val="ffdd00"/>
                  </a:gs>
                  <a:gs pos="100000">
                    <a:srgbClr val="0a0e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rot="418800">
                <a:off x="4930200" y="3733920"/>
                <a:ext cx="543960" cy="723960"/>
              </a:xfrm>
              <a:prstGeom prst="lightningBolt">
                <a:avLst/>
              </a:prstGeom>
              <a:gradFill rotWithShape="0">
                <a:gsLst>
                  <a:gs pos="0">
                    <a:srgbClr val="0a0eff"/>
                  </a:gs>
                  <a:gs pos="50000">
                    <a:srgbClr val="ffdd00"/>
                  </a:gs>
                  <a:gs pos="100000">
                    <a:srgbClr val="0a0e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418800">
                <a:off x="5784840" y="3733920"/>
                <a:ext cx="543600" cy="723960"/>
              </a:xfrm>
              <a:prstGeom prst="lightningBolt">
                <a:avLst/>
              </a:prstGeom>
              <a:gradFill rotWithShape="0">
                <a:gsLst>
                  <a:gs pos="0">
                    <a:srgbClr val="0a0eff"/>
                  </a:gs>
                  <a:gs pos="50000">
                    <a:srgbClr val="ffdd00"/>
                  </a:gs>
                  <a:gs pos="100000">
                    <a:srgbClr val="0a0e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rot="418800">
                <a:off x="3585600" y="3733920"/>
                <a:ext cx="543600" cy="723960"/>
              </a:xfrm>
              <a:prstGeom prst="lightningBolt">
                <a:avLst/>
              </a:prstGeom>
              <a:gradFill rotWithShape="0">
                <a:gsLst>
                  <a:gs pos="0">
                    <a:srgbClr val="0a0eff"/>
                  </a:gs>
                  <a:gs pos="50000">
                    <a:srgbClr val="ffdd00"/>
                  </a:gs>
                  <a:gs pos="100000">
                    <a:srgbClr val="0a0e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242960" y="37720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714120" y="37832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042880" y="37720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900760" y="37720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3351600" y="4704120"/>
              <a:ext cx="3798720" cy="902880"/>
              <a:chOff x="3351600" y="4704120"/>
              <a:chExt cx="3798720" cy="902880"/>
            </a:xfrm>
          </p:grpSpPr>
          <p:sp>
            <p:nvSpPr>
              <p:cNvPr id="551" name=""/>
              <p:cNvSpPr/>
              <p:nvPr/>
            </p:nvSpPr>
            <p:spPr>
              <a:xfrm rot="11700000">
                <a:off x="3435840" y="4761720"/>
                <a:ext cx="543600" cy="723960"/>
              </a:xfrm>
              <a:prstGeom prst="lightningBolt">
                <a:avLst/>
              </a:prstGeom>
              <a:gradFill rotWithShape="0">
                <a:gsLst>
                  <a:gs pos="0">
                    <a:srgbClr val="0a0eff"/>
                  </a:gs>
                  <a:gs pos="50000">
                    <a:srgbClr val="ff0400"/>
                  </a:gs>
                  <a:gs pos="100000">
                    <a:srgbClr val="0a0e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rot="11700000">
                <a:off x="4760280" y="4761720"/>
                <a:ext cx="543600" cy="723960"/>
              </a:xfrm>
              <a:prstGeom prst="lightningBolt">
                <a:avLst/>
              </a:prstGeom>
              <a:gradFill rotWithShape="0">
                <a:gsLst>
                  <a:gs pos="0">
                    <a:srgbClr val="0a0eff"/>
                  </a:gs>
                  <a:gs pos="50000">
                    <a:srgbClr val="ff0400"/>
                  </a:gs>
                  <a:gs pos="100000">
                    <a:srgbClr val="0a0e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11700000">
                <a:off x="6522120" y="4761720"/>
                <a:ext cx="543600" cy="723960"/>
              </a:xfrm>
              <a:prstGeom prst="lightningBolt">
                <a:avLst/>
              </a:prstGeom>
              <a:gradFill rotWithShape="0">
                <a:gsLst>
                  <a:gs pos="0">
                    <a:srgbClr val="0a0eff"/>
                  </a:gs>
                  <a:gs pos="50000">
                    <a:srgbClr val="ff0400"/>
                  </a:gs>
                  <a:gs pos="100000">
                    <a:srgbClr val="0a0e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630240" y="52322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956840" y="52387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712920" y="52196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6692760" y="3703320"/>
              <a:ext cx="628920" cy="784800"/>
              <a:chOff x="6692760" y="3703320"/>
              <a:chExt cx="628920" cy="784800"/>
            </a:xfrm>
          </p:grpSpPr>
          <p:sp>
            <p:nvSpPr>
              <p:cNvPr id="558" name=""/>
              <p:cNvSpPr/>
              <p:nvPr/>
            </p:nvSpPr>
            <p:spPr>
              <a:xfrm rot="418800">
                <a:off x="6734520" y="3733560"/>
                <a:ext cx="545040" cy="723960"/>
              </a:xfrm>
              <a:prstGeom prst="lightningBolt">
                <a:avLst/>
              </a:prstGeom>
              <a:gradFill rotWithShape="0">
                <a:gsLst>
                  <a:gs pos="0">
                    <a:srgbClr val="ff02de"/>
                  </a:gs>
                  <a:gs pos="50000">
                    <a:srgbClr val="009999"/>
                  </a:gs>
                  <a:gs pos="100000">
                    <a:srgbClr val="ff02de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858000" y="37720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0" name=""/>
          <p:cNvSpPr/>
          <p:nvPr/>
        </p:nvSpPr>
        <p:spPr>
          <a:xfrm>
            <a:off x="268560" y="5546880"/>
            <a:ext cx="882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 mutazioni nel promotore portano diminuzione del livello promot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 mutazioni puntiformi all’interno degli esoni causano sostituzioni aa o fine tra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 mutazioni introni, alterazione spli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4 mutazione in siti di poliadenil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"/>
          <p:cNvGrpSpPr/>
          <p:nvPr/>
        </p:nvGrpSpPr>
        <p:grpSpPr>
          <a:xfrm>
            <a:off x="5695920" y="4724280"/>
            <a:ext cx="4141440" cy="1016280"/>
            <a:chOff x="5695920" y="4724280"/>
            <a:chExt cx="4141440" cy="1016280"/>
          </a:xfrm>
        </p:grpSpPr>
        <p:sp>
          <p:nvSpPr>
            <p:cNvPr id="562" name=""/>
            <p:cNvSpPr/>
            <p:nvPr/>
          </p:nvSpPr>
          <p:spPr>
            <a:xfrm>
              <a:off x="7821360" y="4800600"/>
              <a:ext cx="164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 thalassem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695920" y="4724280"/>
              <a:ext cx="4141440" cy="1016280"/>
            </a:xfrm>
            <a:prstGeom prst="rect">
              <a:avLst/>
            </a:prstGeom>
            <a:solidFill>
              <a:srgbClr val="ff0202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400"/>
                </a:solidFill>
                <a:latin typeface="Comic Sans MS"/>
              </a:rPr>
              <a:t>Le mutazioni nella </a:t>
            </a:r>
            <a:r>
              <a:rPr b="1" lang="en-US" sz="2800" spc="-1" strike="noStrike">
                <a:solidFill>
                  <a:srgbClr val="ff0400"/>
                </a:solidFill>
                <a:latin typeface="Symbol"/>
                <a:ea typeface="Symbol"/>
              </a:rPr>
              <a:t></a:t>
            </a:r>
            <a:r>
              <a:rPr b="1" lang="en-US" sz="2800" spc="-1" strike="noStrike">
                <a:solidFill>
                  <a:srgbClr val="ff0400"/>
                </a:solidFill>
                <a:latin typeface="Comic Sans MS"/>
              </a:rPr>
              <a:t>Thalassemia</a:t>
            </a: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565" name=""/>
          <p:cNvSpPr/>
          <p:nvPr/>
        </p:nvSpPr>
        <p:spPr>
          <a:xfrm>
            <a:off x="82440" y="1447920"/>
            <a:ext cx="94107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thalassemia: tutte le forme in cui manca la caten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’mRNA puo’ mancare completamente, degradato o inat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82440" y="2286000"/>
            <a:ext cx="9823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thalassemia: tutte le forme la caten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e’ sottorappresent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’mRNA puo’ non venire processato in maniera corretta o essere poco rappresenta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82440" y="3581280"/>
            <a:ext cx="982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 questa categoria appartengono l’emoglobine Lepore: per effetto di un crossingover fra i geni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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he hanno una parziale omologia di sequenza) si ottiene un gen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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che viene trascritto in minor quantita’ (il promotore di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e’ piu’ debol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412920" y="5281560"/>
            <a:ext cx="4704840" cy="1155960"/>
            <a:chOff x="412920" y="5281560"/>
            <a:chExt cx="4704840" cy="1155960"/>
          </a:xfrm>
        </p:grpSpPr>
        <p:sp>
          <p:nvSpPr>
            <p:cNvPr id="569" name=""/>
            <p:cNvSpPr/>
            <p:nvPr/>
          </p:nvSpPr>
          <p:spPr>
            <a:xfrm>
              <a:off x="1253520" y="5281560"/>
              <a:ext cx="26892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831680" y="5283360"/>
              <a:ext cx="60264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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420280" y="5283360"/>
              <a:ext cx="45792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1150560" y="5675040"/>
              <a:ext cx="396720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046600" y="5581800"/>
              <a:ext cx="340200" cy="139680"/>
            </a:xfrm>
            <a:prstGeom prst="cube">
              <a:avLst>
                <a:gd name="adj" fmla="val 25000"/>
              </a:avLst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483640" y="5581800"/>
              <a:ext cx="342000" cy="139680"/>
            </a:xfrm>
            <a:prstGeom prst="cube">
              <a:avLst>
                <a:gd name="adj" fmla="val 25000"/>
              </a:avLst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096000" y="5581800"/>
              <a:ext cx="245520" cy="139680"/>
            </a:xfrm>
            <a:prstGeom prst="cube">
              <a:avLst>
                <a:gd name="adj" fmla="val 250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802320" y="5581800"/>
              <a:ext cx="340200" cy="13968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483440" y="5581800"/>
              <a:ext cx="342360" cy="13968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216080" y="5581800"/>
              <a:ext cx="340200" cy="13968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989080" y="5299200"/>
              <a:ext cx="514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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786480" y="5315040"/>
              <a:ext cx="3495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485960" y="5315040"/>
              <a:ext cx="29484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99920" y="5661000"/>
              <a:ext cx="18360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12920" y="6016680"/>
              <a:ext cx="400176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343160" y="5931000"/>
              <a:ext cx="342360" cy="138240"/>
            </a:xfrm>
            <a:prstGeom prst="cube">
              <a:avLst>
                <a:gd name="adj" fmla="val 25000"/>
              </a:avLst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783440" y="5931000"/>
              <a:ext cx="340200" cy="138240"/>
            </a:xfrm>
            <a:prstGeom prst="cube">
              <a:avLst>
                <a:gd name="adj" fmla="val 25000"/>
              </a:avLst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395800" y="5931000"/>
              <a:ext cx="242280" cy="138240"/>
            </a:xfrm>
            <a:prstGeom prst="cube">
              <a:avLst>
                <a:gd name="adj" fmla="val 250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098880" y="5931000"/>
              <a:ext cx="340200" cy="13824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781800" y="5931000"/>
              <a:ext cx="340200" cy="13824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12640" y="5931000"/>
              <a:ext cx="342360" cy="13824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890160" y="5729400"/>
              <a:ext cx="209520" cy="198360"/>
            </a:xfrm>
            <a:prstGeom prst="flowChartCollat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34600" y="5980320"/>
              <a:ext cx="26892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112400" y="5981760"/>
              <a:ext cx="60264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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268360" y="5996160"/>
              <a:ext cx="514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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066120" y="6040440"/>
              <a:ext cx="3495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767760" y="6040440"/>
              <a:ext cx="29484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01720" y="5981760"/>
              <a:ext cx="45792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5738760" y="6235560"/>
            <a:ext cx="4001760" cy="506520"/>
            <a:chOff x="5738760" y="6235560"/>
            <a:chExt cx="4001760" cy="506520"/>
          </a:xfrm>
        </p:grpSpPr>
        <p:sp>
          <p:nvSpPr>
            <p:cNvPr id="598" name=""/>
            <p:cNvSpPr/>
            <p:nvPr/>
          </p:nvSpPr>
          <p:spPr>
            <a:xfrm>
              <a:off x="5738760" y="6321240"/>
              <a:ext cx="400176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69000" y="6235560"/>
              <a:ext cx="342360" cy="138240"/>
            </a:xfrm>
            <a:prstGeom prst="cube">
              <a:avLst>
                <a:gd name="adj" fmla="val 25000"/>
              </a:avLst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109280" y="6235560"/>
              <a:ext cx="340200" cy="138240"/>
            </a:xfrm>
            <a:prstGeom prst="cube">
              <a:avLst>
                <a:gd name="adj" fmla="val 25000"/>
              </a:avLst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721640" y="6235560"/>
              <a:ext cx="242280" cy="138240"/>
            </a:xfrm>
            <a:prstGeom prst="cube">
              <a:avLst>
                <a:gd name="adj" fmla="val 250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424720" y="6235560"/>
              <a:ext cx="340200" cy="13824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9107640" y="6235560"/>
              <a:ext cx="340200" cy="13824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838480" y="6235560"/>
              <a:ext cx="342360" cy="13824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860440" y="6284880"/>
              <a:ext cx="26892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438240" y="6286320"/>
              <a:ext cx="60264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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94200" y="6300720"/>
              <a:ext cx="514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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391960" y="6345000"/>
              <a:ext cx="3495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9065160" y="6345000"/>
              <a:ext cx="52200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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027560" y="6286320"/>
              <a:ext cx="45792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5856120" y="5122800"/>
            <a:ext cx="3966840" cy="439920"/>
            <a:chOff x="5856120" y="5122800"/>
            <a:chExt cx="3966840" cy="439920"/>
          </a:xfrm>
        </p:grpSpPr>
        <p:sp>
          <p:nvSpPr>
            <p:cNvPr id="612" name=""/>
            <p:cNvSpPr/>
            <p:nvPr/>
          </p:nvSpPr>
          <p:spPr>
            <a:xfrm>
              <a:off x="5959080" y="5122800"/>
              <a:ext cx="26892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536880" y="5124600"/>
              <a:ext cx="60264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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125840" y="5124600"/>
              <a:ext cx="45792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5856120" y="5516280"/>
              <a:ext cx="396684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752160" y="5423040"/>
              <a:ext cx="340200" cy="139680"/>
            </a:xfrm>
            <a:prstGeom prst="cube">
              <a:avLst>
                <a:gd name="adj" fmla="val 25000"/>
              </a:avLst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188840" y="5423040"/>
              <a:ext cx="342000" cy="139680"/>
            </a:xfrm>
            <a:prstGeom prst="cube">
              <a:avLst>
                <a:gd name="adj" fmla="val 25000"/>
              </a:avLst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801200" y="5423040"/>
              <a:ext cx="245520" cy="139680"/>
            </a:xfrm>
            <a:prstGeom prst="cube">
              <a:avLst>
                <a:gd name="adj" fmla="val 250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507880" y="5423040"/>
              <a:ext cx="340200" cy="13968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9188640" y="5423040"/>
              <a:ext cx="342360" cy="13968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921280" y="5423040"/>
              <a:ext cx="340200" cy="13968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694280" y="5140440"/>
              <a:ext cx="514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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492040" y="5156280"/>
              <a:ext cx="3495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9191520" y="5156280"/>
              <a:ext cx="40752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5695920" y="5765760"/>
            <a:ext cx="4141440" cy="1015920"/>
            <a:chOff x="5695920" y="5765760"/>
            <a:chExt cx="4141440" cy="1015920"/>
          </a:xfrm>
        </p:grpSpPr>
        <p:sp>
          <p:nvSpPr>
            <p:cNvPr id="626" name=""/>
            <p:cNvSpPr/>
            <p:nvPr/>
          </p:nvSpPr>
          <p:spPr>
            <a:xfrm>
              <a:off x="8466840" y="5791320"/>
              <a:ext cx="106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Norm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695920" y="5765760"/>
              <a:ext cx="4141440" cy="101592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3714840" y="2409840"/>
            <a:ext cx="123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375080" y="3324240"/>
            <a:ext cx="247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375080" y="240984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851520" y="33274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817280" y="3497400"/>
            <a:ext cx="38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8210160" y="4314960"/>
            <a:ext cx="10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9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482760" y="4495680"/>
            <a:ext cx="8514720" cy="1179000"/>
            <a:chOff x="482760" y="4495680"/>
            <a:chExt cx="8514720" cy="1179000"/>
          </a:xfrm>
        </p:grpSpPr>
        <p:sp>
          <p:nvSpPr>
            <p:cNvPr id="635" name=""/>
            <p:cNvSpPr/>
            <p:nvPr/>
          </p:nvSpPr>
          <p:spPr>
            <a:xfrm>
              <a:off x="482760" y="4495680"/>
              <a:ext cx="586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04000" y="5032080"/>
              <a:ext cx="66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3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15480" y="4698720"/>
              <a:ext cx="412560" cy="152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384000" y="4698720"/>
              <a:ext cx="412920" cy="152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200200" y="4698720"/>
              <a:ext cx="412560" cy="152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227920" y="5140080"/>
              <a:ext cx="412560" cy="152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398040" y="5140080"/>
              <a:ext cx="412560" cy="152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768720" y="5140080"/>
              <a:ext cx="412560" cy="152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584560" y="5140080"/>
              <a:ext cx="412920" cy="152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477720" y="5867280"/>
            <a:ext cx="9345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est per la mutazione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39  basato sul dot-blot. Ibridazione con oligonucleotide normale (N) e mutante (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39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4910040" y="1622520"/>
            <a:ext cx="785880" cy="1549440"/>
          </a:xfrm>
          <a:prstGeom prst="rect">
            <a:avLst/>
          </a:prstGeom>
          <a:ln w="0">
            <a:noFill/>
          </a:ln>
        </p:spPr>
      </p:pic>
      <p:pic>
        <p:nvPicPr>
          <p:cNvPr id="646" name="" descr=""/>
          <p:cNvPicPr/>
          <p:nvPr/>
        </p:nvPicPr>
        <p:blipFill>
          <a:blip r:embed="rId2"/>
          <a:stretch/>
        </p:blipFill>
        <p:spPr>
          <a:xfrm>
            <a:off x="3103560" y="1647720"/>
            <a:ext cx="858960" cy="148284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3"/>
          <a:stretch/>
        </p:blipFill>
        <p:spPr>
          <a:xfrm>
            <a:off x="6603840" y="3629160"/>
            <a:ext cx="498600" cy="9903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07920" y="38052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202"/>
                </a:solidFill>
                <a:latin typeface="Comic Sans MS"/>
              </a:rPr>
              <a:t>test mutazioni globina</a:t>
            </a: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400"/>
                </a:solidFill>
                <a:latin typeface="Comic Sans MS"/>
              </a:rPr>
              <a:t>Saggio mutazione </a:t>
            </a:r>
            <a:r>
              <a:rPr b="1" lang="en-US" sz="1800" spc="-1" strike="noStrike">
                <a:solidFill>
                  <a:srgbClr val="ff04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ff0400"/>
                </a:solidFill>
                <a:latin typeface="Comic Sans MS"/>
              </a:rPr>
              <a:t> globina mediante traduzione </a:t>
            </a:r>
            <a:r>
              <a:rPr b="1" i="1" lang="en-US" sz="1800" spc="-1" strike="noStrike">
                <a:solidFill>
                  <a:srgbClr val="ff0400"/>
                </a:solidFill>
                <a:latin typeface="Comic Sans MS"/>
              </a:rPr>
              <a:t>in vitro</a:t>
            </a:r>
            <a:endParaRPr b="1" lang="en-US" sz="1800" spc="-1" strike="noStrike">
              <a:solidFill>
                <a:srgbClr val="ff0400"/>
              </a:solidFill>
              <a:latin typeface="Comic Sans MS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412920" y="1752480"/>
            <a:ext cx="2392920" cy="990720"/>
            <a:chOff x="412920" y="1752480"/>
            <a:chExt cx="2392920" cy="990720"/>
          </a:xfrm>
        </p:grpSpPr>
        <p:sp>
          <p:nvSpPr>
            <p:cNvPr id="651" name=""/>
            <p:cNvSpPr/>
            <p:nvPr/>
          </p:nvSpPr>
          <p:spPr>
            <a:xfrm>
              <a:off x="412920" y="1905120"/>
              <a:ext cx="990000" cy="5331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25480" y="1981080"/>
              <a:ext cx="24732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155600" y="1752480"/>
              <a:ext cx="990000" cy="53352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68520" y="1828800"/>
              <a:ext cx="24732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073160" y="2209680"/>
              <a:ext cx="990000" cy="53352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485720" y="2286000"/>
              <a:ext cx="24732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815840" y="1981080"/>
              <a:ext cx="990000" cy="53352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228400" y="2057400"/>
              <a:ext cx="24732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1293840" y="3232080"/>
            <a:ext cx="1231920" cy="235080"/>
          </a:xfrm>
          <a:custGeom>
            <a:avLst/>
            <a:gdLst/>
            <a:ahLst/>
            <a:rect l="l" t="t" r="r" b="b"/>
            <a:pathLst>
              <a:path w="717" h="148">
                <a:moveTo>
                  <a:pt x="0" y="148"/>
                </a:moveTo>
                <a:cubicBezTo>
                  <a:pt x="61" y="86"/>
                  <a:pt x="127" y="70"/>
                  <a:pt x="208" y="44"/>
                </a:cubicBezTo>
                <a:cubicBezTo>
                  <a:pt x="234" y="52"/>
                  <a:pt x="262" y="57"/>
                  <a:pt x="288" y="68"/>
                </a:cubicBezTo>
                <a:cubicBezTo>
                  <a:pt x="326" y="83"/>
                  <a:pt x="351" y="105"/>
                  <a:pt x="392" y="116"/>
                </a:cubicBezTo>
                <a:cubicBezTo>
                  <a:pt x="429" y="113"/>
                  <a:pt x="526" y="110"/>
                  <a:pt x="568" y="92"/>
                </a:cubicBezTo>
                <a:cubicBezTo>
                  <a:pt x="594" y="80"/>
                  <a:pt x="614" y="58"/>
                  <a:pt x="640" y="44"/>
                </a:cubicBezTo>
                <a:cubicBezTo>
                  <a:pt x="717" y="0"/>
                  <a:pt x="678" y="37"/>
                  <a:pt x="704" y="12"/>
                </a:cubicBezTo>
              </a:path>
            </a:pathLst>
          </a:custGeom>
          <a:noFill/>
          <a:ln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459080" y="3384720"/>
            <a:ext cx="1231560" cy="234720"/>
          </a:xfrm>
          <a:custGeom>
            <a:avLst/>
            <a:gdLst/>
            <a:ahLst/>
            <a:rect l="l" t="t" r="r" b="b"/>
            <a:pathLst>
              <a:path w="717" h="148">
                <a:moveTo>
                  <a:pt x="0" y="148"/>
                </a:moveTo>
                <a:cubicBezTo>
                  <a:pt x="61" y="86"/>
                  <a:pt x="127" y="70"/>
                  <a:pt x="208" y="44"/>
                </a:cubicBezTo>
                <a:cubicBezTo>
                  <a:pt x="234" y="52"/>
                  <a:pt x="262" y="57"/>
                  <a:pt x="288" y="68"/>
                </a:cubicBezTo>
                <a:cubicBezTo>
                  <a:pt x="326" y="83"/>
                  <a:pt x="351" y="105"/>
                  <a:pt x="392" y="116"/>
                </a:cubicBezTo>
                <a:cubicBezTo>
                  <a:pt x="429" y="113"/>
                  <a:pt x="526" y="110"/>
                  <a:pt x="568" y="92"/>
                </a:cubicBezTo>
                <a:cubicBezTo>
                  <a:pt x="594" y="80"/>
                  <a:pt x="614" y="58"/>
                  <a:pt x="640" y="44"/>
                </a:cubicBezTo>
                <a:cubicBezTo>
                  <a:pt x="717" y="0"/>
                  <a:pt x="678" y="37"/>
                  <a:pt x="704" y="12"/>
                </a:cubicBezTo>
              </a:path>
            </a:pathLst>
          </a:custGeom>
          <a:noFill/>
          <a:ln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573200" y="3537000"/>
            <a:ext cx="1233360" cy="235080"/>
          </a:xfrm>
          <a:custGeom>
            <a:avLst/>
            <a:gdLst/>
            <a:ahLst/>
            <a:rect l="l" t="t" r="r" b="b"/>
            <a:pathLst>
              <a:path w="717" h="148">
                <a:moveTo>
                  <a:pt x="0" y="148"/>
                </a:moveTo>
                <a:cubicBezTo>
                  <a:pt x="61" y="86"/>
                  <a:pt x="127" y="70"/>
                  <a:pt x="208" y="44"/>
                </a:cubicBezTo>
                <a:cubicBezTo>
                  <a:pt x="234" y="52"/>
                  <a:pt x="262" y="57"/>
                  <a:pt x="288" y="68"/>
                </a:cubicBezTo>
                <a:cubicBezTo>
                  <a:pt x="326" y="83"/>
                  <a:pt x="351" y="105"/>
                  <a:pt x="392" y="116"/>
                </a:cubicBezTo>
                <a:cubicBezTo>
                  <a:pt x="429" y="113"/>
                  <a:pt x="526" y="110"/>
                  <a:pt x="568" y="92"/>
                </a:cubicBezTo>
                <a:cubicBezTo>
                  <a:pt x="594" y="80"/>
                  <a:pt x="614" y="58"/>
                  <a:pt x="640" y="44"/>
                </a:cubicBezTo>
                <a:cubicBezTo>
                  <a:pt x="717" y="0"/>
                  <a:pt x="678" y="37"/>
                  <a:pt x="704" y="12"/>
                </a:cubicBezTo>
              </a:path>
            </a:pathLst>
          </a:custGeom>
          <a:noFill/>
          <a:ln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986120" y="3429000"/>
            <a:ext cx="1233360" cy="235080"/>
          </a:xfrm>
          <a:custGeom>
            <a:avLst/>
            <a:gdLst/>
            <a:ahLst/>
            <a:rect l="l" t="t" r="r" b="b"/>
            <a:pathLst>
              <a:path w="717" h="148">
                <a:moveTo>
                  <a:pt x="0" y="148"/>
                </a:moveTo>
                <a:cubicBezTo>
                  <a:pt x="61" y="86"/>
                  <a:pt x="127" y="70"/>
                  <a:pt x="208" y="44"/>
                </a:cubicBezTo>
                <a:cubicBezTo>
                  <a:pt x="234" y="52"/>
                  <a:pt x="262" y="57"/>
                  <a:pt x="288" y="68"/>
                </a:cubicBezTo>
                <a:cubicBezTo>
                  <a:pt x="326" y="83"/>
                  <a:pt x="351" y="105"/>
                  <a:pt x="392" y="116"/>
                </a:cubicBezTo>
                <a:cubicBezTo>
                  <a:pt x="429" y="113"/>
                  <a:pt x="526" y="110"/>
                  <a:pt x="568" y="92"/>
                </a:cubicBezTo>
                <a:cubicBezTo>
                  <a:pt x="594" y="80"/>
                  <a:pt x="614" y="58"/>
                  <a:pt x="640" y="44"/>
                </a:cubicBezTo>
                <a:cubicBezTo>
                  <a:pt x="717" y="0"/>
                  <a:pt x="678" y="37"/>
                  <a:pt x="704" y="12"/>
                </a:cubicBezTo>
              </a:path>
            </a:pathLst>
          </a:custGeom>
          <a:noFill/>
          <a:ln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151000" y="3200400"/>
            <a:ext cx="1233720" cy="235080"/>
          </a:xfrm>
          <a:custGeom>
            <a:avLst/>
            <a:gdLst/>
            <a:ahLst/>
            <a:rect l="l" t="t" r="r" b="b"/>
            <a:pathLst>
              <a:path w="717" h="148">
                <a:moveTo>
                  <a:pt x="0" y="148"/>
                </a:moveTo>
                <a:cubicBezTo>
                  <a:pt x="61" y="86"/>
                  <a:pt x="127" y="70"/>
                  <a:pt x="208" y="44"/>
                </a:cubicBezTo>
                <a:cubicBezTo>
                  <a:pt x="234" y="52"/>
                  <a:pt x="262" y="57"/>
                  <a:pt x="288" y="68"/>
                </a:cubicBezTo>
                <a:cubicBezTo>
                  <a:pt x="326" y="83"/>
                  <a:pt x="351" y="105"/>
                  <a:pt x="392" y="116"/>
                </a:cubicBezTo>
                <a:cubicBezTo>
                  <a:pt x="429" y="113"/>
                  <a:pt x="526" y="110"/>
                  <a:pt x="568" y="92"/>
                </a:cubicBezTo>
                <a:cubicBezTo>
                  <a:pt x="594" y="80"/>
                  <a:pt x="614" y="58"/>
                  <a:pt x="640" y="44"/>
                </a:cubicBezTo>
                <a:cubicBezTo>
                  <a:pt x="717" y="0"/>
                  <a:pt x="678" y="37"/>
                  <a:pt x="704" y="12"/>
                </a:cubicBezTo>
              </a:path>
            </a:pathLst>
          </a:custGeom>
          <a:noFill/>
          <a:ln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2971800" y="4191120"/>
            <a:ext cx="329760" cy="1371600"/>
            <a:chOff x="2971800" y="4191120"/>
            <a:chExt cx="329760" cy="1371600"/>
          </a:xfrm>
        </p:grpSpPr>
        <p:sp>
          <p:nvSpPr>
            <p:cNvPr id="665" name=""/>
            <p:cNvSpPr/>
            <p:nvPr/>
          </p:nvSpPr>
          <p:spPr>
            <a:xfrm>
              <a:off x="3108960" y="5105520"/>
              <a:ext cx="82440" cy="45720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971800" y="4343760"/>
              <a:ext cx="329760" cy="9144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7575"/>
                </a:gs>
                <a:gs pos="50000">
                  <a:srgbClr val="00ffff"/>
                </a:gs>
                <a:gs pos="100000">
                  <a:srgbClr val="00757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081600" y="4191120"/>
              <a:ext cx="109800" cy="3049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1986120" y="3657600"/>
            <a:ext cx="1233360" cy="235080"/>
          </a:xfrm>
          <a:custGeom>
            <a:avLst/>
            <a:gdLst/>
            <a:ahLst/>
            <a:rect l="l" t="t" r="r" b="b"/>
            <a:pathLst>
              <a:path w="717" h="148">
                <a:moveTo>
                  <a:pt x="0" y="148"/>
                </a:moveTo>
                <a:cubicBezTo>
                  <a:pt x="61" y="86"/>
                  <a:pt x="127" y="70"/>
                  <a:pt x="208" y="44"/>
                </a:cubicBezTo>
                <a:cubicBezTo>
                  <a:pt x="234" y="52"/>
                  <a:pt x="262" y="57"/>
                  <a:pt x="288" y="68"/>
                </a:cubicBezTo>
                <a:cubicBezTo>
                  <a:pt x="326" y="83"/>
                  <a:pt x="351" y="105"/>
                  <a:pt x="392" y="116"/>
                </a:cubicBezTo>
                <a:cubicBezTo>
                  <a:pt x="429" y="113"/>
                  <a:pt x="526" y="110"/>
                  <a:pt x="568" y="92"/>
                </a:cubicBezTo>
                <a:cubicBezTo>
                  <a:pt x="594" y="80"/>
                  <a:pt x="614" y="58"/>
                  <a:pt x="640" y="44"/>
                </a:cubicBezTo>
                <a:cubicBezTo>
                  <a:pt x="717" y="0"/>
                  <a:pt x="678" y="37"/>
                  <a:pt x="704" y="12"/>
                </a:cubicBezTo>
              </a:path>
            </a:pathLst>
          </a:custGeom>
          <a:noFill/>
          <a:ln w="19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151000" y="3429000"/>
            <a:ext cx="1233720" cy="235080"/>
          </a:xfrm>
          <a:custGeom>
            <a:avLst/>
            <a:gdLst/>
            <a:ahLst/>
            <a:rect l="l" t="t" r="r" b="b"/>
            <a:pathLst>
              <a:path w="717" h="148">
                <a:moveTo>
                  <a:pt x="0" y="148"/>
                </a:moveTo>
                <a:cubicBezTo>
                  <a:pt x="61" y="86"/>
                  <a:pt x="127" y="70"/>
                  <a:pt x="208" y="44"/>
                </a:cubicBezTo>
                <a:cubicBezTo>
                  <a:pt x="234" y="52"/>
                  <a:pt x="262" y="57"/>
                  <a:pt x="288" y="68"/>
                </a:cubicBezTo>
                <a:cubicBezTo>
                  <a:pt x="326" y="83"/>
                  <a:pt x="351" y="105"/>
                  <a:pt x="392" y="116"/>
                </a:cubicBezTo>
                <a:cubicBezTo>
                  <a:pt x="429" y="113"/>
                  <a:pt x="526" y="110"/>
                  <a:pt x="568" y="92"/>
                </a:cubicBezTo>
                <a:cubicBezTo>
                  <a:pt x="594" y="80"/>
                  <a:pt x="614" y="58"/>
                  <a:pt x="640" y="44"/>
                </a:cubicBezTo>
                <a:cubicBezTo>
                  <a:pt x="717" y="0"/>
                  <a:pt x="678" y="37"/>
                  <a:pt x="704" y="12"/>
                </a:cubicBezTo>
              </a:path>
            </a:pathLst>
          </a:custGeom>
          <a:noFill/>
          <a:ln w="19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365800" y="5257800"/>
            <a:ext cx="1233360" cy="235080"/>
          </a:xfrm>
          <a:custGeom>
            <a:avLst/>
            <a:gdLst/>
            <a:ahLst/>
            <a:rect l="l" t="t" r="r" b="b"/>
            <a:pathLst>
              <a:path w="717" h="148">
                <a:moveTo>
                  <a:pt x="0" y="148"/>
                </a:moveTo>
                <a:cubicBezTo>
                  <a:pt x="61" y="86"/>
                  <a:pt x="127" y="70"/>
                  <a:pt x="208" y="44"/>
                </a:cubicBezTo>
                <a:cubicBezTo>
                  <a:pt x="234" y="52"/>
                  <a:pt x="262" y="57"/>
                  <a:pt x="288" y="68"/>
                </a:cubicBezTo>
                <a:cubicBezTo>
                  <a:pt x="326" y="83"/>
                  <a:pt x="351" y="105"/>
                  <a:pt x="392" y="116"/>
                </a:cubicBezTo>
                <a:cubicBezTo>
                  <a:pt x="429" y="113"/>
                  <a:pt x="526" y="110"/>
                  <a:pt x="568" y="92"/>
                </a:cubicBezTo>
                <a:cubicBezTo>
                  <a:pt x="594" y="80"/>
                  <a:pt x="614" y="58"/>
                  <a:pt x="640" y="44"/>
                </a:cubicBezTo>
                <a:cubicBezTo>
                  <a:pt x="717" y="0"/>
                  <a:pt x="678" y="37"/>
                  <a:pt x="704" y="12"/>
                </a:cubicBezTo>
              </a:path>
            </a:pathLst>
          </a:custGeom>
          <a:noFill/>
          <a:ln w="19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650960" y="3352680"/>
            <a:ext cx="1233360" cy="235080"/>
          </a:xfrm>
          <a:custGeom>
            <a:avLst/>
            <a:gdLst/>
            <a:ahLst/>
            <a:rect l="l" t="t" r="r" b="b"/>
            <a:pathLst>
              <a:path w="717" h="148">
                <a:moveTo>
                  <a:pt x="0" y="148"/>
                </a:moveTo>
                <a:cubicBezTo>
                  <a:pt x="61" y="86"/>
                  <a:pt x="127" y="70"/>
                  <a:pt x="208" y="44"/>
                </a:cubicBezTo>
                <a:cubicBezTo>
                  <a:pt x="234" y="52"/>
                  <a:pt x="262" y="57"/>
                  <a:pt x="288" y="68"/>
                </a:cubicBezTo>
                <a:cubicBezTo>
                  <a:pt x="326" y="83"/>
                  <a:pt x="351" y="105"/>
                  <a:pt x="392" y="116"/>
                </a:cubicBezTo>
                <a:cubicBezTo>
                  <a:pt x="429" y="113"/>
                  <a:pt x="526" y="110"/>
                  <a:pt x="568" y="92"/>
                </a:cubicBezTo>
                <a:cubicBezTo>
                  <a:pt x="594" y="80"/>
                  <a:pt x="614" y="58"/>
                  <a:pt x="640" y="44"/>
                </a:cubicBezTo>
                <a:cubicBezTo>
                  <a:pt x="717" y="0"/>
                  <a:pt x="678" y="37"/>
                  <a:pt x="704" y="12"/>
                </a:cubicBezTo>
              </a:path>
            </a:pathLst>
          </a:custGeom>
          <a:noFill/>
          <a:ln w="19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816200" y="3124080"/>
            <a:ext cx="1233360" cy="235080"/>
          </a:xfrm>
          <a:custGeom>
            <a:avLst/>
            <a:gdLst/>
            <a:ahLst/>
            <a:rect l="l" t="t" r="r" b="b"/>
            <a:pathLst>
              <a:path w="717" h="148">
                <a:moveTo>
                  <a:pt x="0" y="148"/>
                </a:moveTo>
                <a:cubicBezTo>
                  <a:pt x="61" y="86"/>
                  <a:pt x="127" y="70"/>
                  <a:pt x="208" y="44"/>
                </a:cubicBezTo>
                <a:cubicBezTo>
                  <a:pt x="234" y="52"/>
                  <a:pt x="262" y="57"/>
                  <a:pt x="288" y="68"/>
                </a:cubicBezTo>
                <a:cubicBezTo>
                  <a:pt x="326" y="83"/>
                  <a:pt x="351" y="105"/>
                  <a:pt x="392" y="116"/>
                </a:cubicBezTo>
                <a:cubicBezTo>
                  <a:pt x="429" y="113"/>
                  <a:pt x="526" y="110"/>
                  <a:pt x="568" y="92"/>
                </a:cubicBezTo>
                <a:cubicBezTo>
                  <a:pt x="594" y="80"/>
                  <a:pt x="614" y="58"/>
                  <a:pt x="640" y="44"/>
                </a:cubicBezTo>
                <a:cubicBezTo>
                  <a:pt x="717" y="0"/>
                  <a:pt x="678" y="37"/>
                  <a:pt x="704" y="12"/>
                </a:cubicBezTo>
              </a:path>
            </a:pathLst>
          </a:custGeom>
          <a:noFill/>
          <a:ln w="19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026040" y="5410080"/>
            <a:ext cx="412920" cy="304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20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122880" y="5270400"/>
            <a:ext cx="247680" cy="15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20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2511360" y="5638680"/>
            <a:ext cx="1485720" cy="533520"/>
            <a:chOff x="2511360" y="5638680"/>
            <a:chExt cx="1485720" cy="533520"/>
          </a:xfrm>
        </p:grpSpPr>
        <p:sp>
          <p:nvSpPr>
            <p:cNvPr id="676" name=""/>
            <p:cNvSpPr/>
            <p:nvPr/>
          </p:nvSpPr>
          <p:spPr>
            <a:xfrm>
              <a:off x="2598840" y="5937120"/>
              <a:ext cx="1232640" cy="235080"/>
            </a:xfrm>
            <a:custGeom>
              <a:avLst/>
              <a:gdLst/>
              <a:ahLst/>
              <a:rect l="l" t="t" r="r" b="b"/>
              <a:pathLst>
                <a:path w="717" h="148">
                  <a:moveTo>
                    <a:pt x="0" y="148"/>
                  </a:moveTo>
                  <a:cubicBezTo>
                    <a:pt x="61" y="86"/>
                    <a:pt x="127" y="70"/>
                    <a:pt x="208" y="44"/>
                  </a:cubicBezTo>
                  <a:cubicBezTo>
                    <a:pt x="234" y="52"/>
                    <a:pt x="262" y="57"/>
                    <a:pt x="288" y="68"/>
                  </a:cubicBezTo>
                  <a:cubicBezTo>
                    <a:pt x="326" y="83"/>
                    <a:pt x="351" y="105"/>
                    <a:pt x="392" y="116"/>
                  </a:cubicBezTo>
                  <a:cubicBezTo>
                    <a:pt x="429" y="113"/>
                    <a:pt x="526" y="110"/>
                    <a:pt x="568" y="92"/>
                  </a:cubicBezTo>
                  <a:cubicBezTo>
                    <a:pt x="594" y="80"/>
                    <a:pt x="614" y="58"/>
                    <a:pt x="640" y="44"/>
                  </a:cubicBezTo>
                  <a:cubicBezTo>
                    <a:pt x="717" y="0"/>
                    <a:pt x="678" y="37"/>
                    <a:pt x="704" y="12"/>
                  </a:cubicBezTo>
                </a:path>
              </a:pathLst>
            </a:custGeom>
            <a:noFill/>
            <a:ln w="19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764080" y="5708520"/>
              <a:ext cx="1233000" cy="235080"/>
            </a:xfrm>
            <a:custGeom>
              <a:avLst/>
              <a:gdLst/>
              <a:ahLst/>
              <a:rect l="l" t="t" r="r" b="b"/>
              <a:pathLst>
                <a:path w="717" h="148">
                  <a:moveTo>
                    <a:pt x="0" y="148"/>
                  </a:moveTo>
                  <a:cubicBezTo>
                    <a:pt x="61" y="86"/>
                    <a:pt x="127" y="70"/>
                    <a:pt x="208" y="44"/>
                  </a:cubicBezTo>
                  <a:cubicBezTo>
                    <a:pt x="234" y="52"/>
                    <a:pt x="262" y="57"/>
                    <a:pt x="288" y="68"/>
                  </a:cubicBezTo>
                  <a:cubicBezTo>
                    <a:pt x="326" y="83"/>
                    <a:pt x="351" y="105"/>
                    <a:pt x="392" y="116"/>
                  </a:cubicBezTo>
                  <a:cubicBezTo>
                    <a:pt x="429" y="113"/>
                    <a:pt x="526" y="110"/>
                    <a:pt x="568" y="92"/>
                  </a:cubicBezTo>
                  <a:cubicBezTo>
                    <a:pt x="594" y="80"/>
                    <a:pt x="614" y="58"/>
                    <a:pt x="640" y="44"/>
                  </a:cubicBezTo>
                  <a:cubicBezTo>
                    <a:pt x="717" y="0"/>
                    <a:pt x="678" y="37"/>
                    <a:pt x="704" y="12"/>
                  </a:cubicBezTo>
                </a:path>
              </a:pathLst>
            </a:custGeom>
            <a:noFill/>
            <a:ln w="19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764080" y="5791320"/>
              <a:ext cx="1233000" cy="234720"/>
            </a:xfrm>
            <a:custGeom>
              <a:avLst/>
              <a:gdLst/>
              <a:ahLst/>
              <a:rect l="l" t="t" r="r" b="b"/>
              <a:pathLst>
                <a:path w="717" h="148">
                  <a:moveTo>
                    <a:pt x="0" y="148"/>
                  </a:moveTo>
                  <a:cubicBezTo>
                    <a:pt x="61" y="86"/>
                    <a:pt x="127" y="70"/>
                    <a:pt x="208" y="44"/>
                  </a:cubicBezTo>
                  <a:cubicBezTo>
                    <a:pt x="234" y="52"/>
                    <a:pt x="262" y="57"/>
                    <a:pt x="288" y="68"/>
                  </a:cubicBezTo>
                  <a:cubicBezTo>
                    <a:pt x="326" y="83"/>
                    <a:pt x="351" y="105"/>
                    <a:pt x="392" y="116"/>
                  </a:cubicBezTo>
                  <a:cubicBezTo>
                    <a:pt x="429" y="113"/>
                    <a:pt x="526" y="110"/>
                    <a:pt x="568" y="92"/>
                  </a:cubicBezTo>
                  <a:cubicBezTo>
                    <a:pt x="594" y="80"/>
                    <a:pt x="614" y="58"/>
                    <a:pt x="640" y="44"/>
                  </a:cubicBezTo>
                  <a:cubicBezTo>
                    <a:pt x="717" y="0"/>
                    <a:pt x="678" y="37"/>
                    <a:pt x="704" y="12"/>
                  </a:cubicBezTo>
                </a:path>
              </a:pathLst>
            </a:custGeom>
            <a:noFill/>
            <a:ln w="19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11360" y="5638680"/>
              <a:ext cx="1232640" cy="235080"/>
            </a:xfrm>
            <a:custGeom>
              <a:avLst/>
              <a:gdLst/>
              <a:ahLst/>
              <a:rect l="l" t="t" r="r" b="b"/>
              <a:pathLst>
                <a:path w="717" h="148">
                  <a:moveTo>
                    <a:pt x="0" y="148"/>
                  </a:moveTo>
                  <a:cubicBezTo>
                    <a:pt x="61" y="86"/>
                    <a:pt x="127" y="70"/>
                    <a:pt x="208" y="44"/>
                  </a:cubicBezTo>
                  <a:cubicBezTo>
                    <a:pt x="234" y="52"/>
                    <a:pt x="262" y="57"/>
                    <a:pt x="288" y="68"/>
                  </a:cubicBezTo>
                  <a:cubicBezTo>
                    <a:pt x="326" y="83"/>
                    <a:pt x="351" y="105"/>
                    <a:pt x="392" y="116"/>
                  </a:cubicBezTo>
                  <a:cubicBezTo>
                    <a:pt x="429" y="113"/>
                    <a:pt x="526" y="110"/>
                    <a:pt x="568" y="92"/>
                  </a:cubicBezTo>
                  <a:cubicBezTo>
                    <a:pt x="594" y="80"/>
                    <a:pt x="614" y="58"/>
                    <a:pt x="640" y="44"/>
                  </a:cubicBezTo>
                  <a:cubicBezTo>
                    <a:pt x="717" y="0"/>
                    <a:pt x="678" y="37"/>
                    <a:pt x="704" y="12"/>
                  </a:cubicBezTo>
                </a:path>
              </a:pathLst>
            </a:custGeom>
            <a:noFill/>
            <a:ln w="19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6026040" y="5867280"/>
            <a:ext cx="1233720" cy="235080"/>
          </a:xfrm>
          <a:custGeom>
            <a:avLst/>
            <a:gdLst/>
            <a:ahLst/>
            <a:rect l="l" t="t" r="r" b="b"/>
            <a:pathLst>
              <a:path w="717" h="148">
                <a:moveTo>
                  <a:pt x="0" y="148"/>
                </a:moveTo>
                <a:cubicBezTo>
                  <a:pt x="61" y="86"/>
                  <a:pt x="127" y="70"/>
                  <a:pt x="208" y="44"/>
                </a:cubicBezTo>
                <a:cubicBezTo>
                  <a:pt x="234" y="52"/>
                  <a:pt x="262" y="57"/>
                  <a:pt x="288" y="68"/>
                </a:cubicBezTo>
                <a:cubicBezTo>
                  <a:pt x="326" y="83"/>
                  <a:pt x="351" y="105"/>
                  <a:pt x="392" y="116"/>
                </a:cubicBezTo>
                <a:cubicBezTo>
                  <a:pt x="429" y="113"/>
                  <a:pt x="526" y="110"/>
                  <a:pt x="568" y="92"/>
                </a:cubicBezTo>
                <a:cubicBezTo>
                  <a:pt x="594" y="80"/>
                  <a:pt x="614" y="58"/>
                  <a:pt x="640" y="44"/>
                </a:cubicBezTo>
                <a:cubicBezTo>
                  <a:pt x="717" y="0"/>
                  <a:pt x="678" y="37"/>
                  <a:pt x="704" y="12"/>
                </a:cubicBezTo>
              </a:path>
            </a:pathLst>
          </a:custGeom>
          <a:noFill/>
          <a:ln w="19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769080" y="5943600"/>
            <a:ext cx="412920" cy="304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20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65920" y="5803920"/>
            <a:ext cx="24768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20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026040" y="5334120"/>
            <a:ext cx="1233720" cy="234720"/>
          </a:xfrm>
          <a:custGeom>
            <a:avLst/>
            <a:gdLst/>
            <a:ahLst/>
            <a:rect l="l" t="t" r="r" b="b"/>
            <a:pathLst>
              <a:path w="717" h="148">
                <a:moveTo>
                  <a:pt x="0" y="148"/>
                </a:moveTo>
                <a:cubicBezTo>
                  <a:pt x="61" y="86"/>
                  <a:pt x="127" y="70"/>
                  <a:pt x="208" y="44"/>
                </a:cubicBezTo>
                <a:cubicBezTo>
                  <a:pt x="234" y="52"/>
                  <a:pt x="262" y="57"/>
                  <a:pt x="288" y="68"/>
                </a:cubicBezTo>
                <a:cubicBezTo>
                  <a:pt x="326" y="83"/>
                  <a:pt x="351" y="105"/>
                  <a:pt x="392" y="116"/>
                </a:cubicBezTo>
                <a:cubicBezTo>
                  <a:pt x="429" y="113"/>
                  <a:pt x="526" y="110"/>
                  <a:pt x="568" y="92"/>
                </a:cubicBezTo>
                <a:cubicBezTo>
                  <a:pt x="594" y="80"/>
                  <a:pt x="614" y="58"/>
                  <a:pt x="640" y="44"/>
                </a:cubicBezTo>
                <a:cubicBezTo>
                  <a:pt x="717" y="0"/>
                  <a:pt x="678" y="37"/>
                  <a:pt x="704" y="12"/>
                </a:cubicBezTo>
              </a:path>
            </a:pathLst>
          </a:custGeom>
          <a:noFill/>
          <a:ln w="19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686640" y="5486400"/>
            <a:ext cx="412560" cy="304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20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783480" y="5346720"/>
            <a:ext cx="24768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20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694720" y="3048120"/>
            <a:ext cx="633600" cy="495360"/>
          </a:xfrm>
          <a:custGeom>
            <a:avLst/>
            <a:gdLst/>
            <a:ahLst/>
            <a:rect l="l" t="t" r="r" b="b"/>
            <a:pathLst>
              <a:path w="368" h="312">
                <a:moveTo>
                  <a:pt x="368" y="312"/>
                </a:moveTo>
                <a:cubicBezTo>
                  <a:pt x="278" y="282"/>
                  <a:pt x="264" y="280"/>
                  <a:pt x="216" y="208"/>
                </a:cubicBezTo>
                <a:cubicBezTo>
                  <a:pt x="200" y="114"/>
                  <a:pt x="236" y="19"/>
                  <a:pt x="336" y="0"/>
                </a:cubicBezTo>
                <a:cubicBezTo>
                  <a:pt x="344" y="10"/>
                  <a:pt x="358" y="18"/>
                  <a:pt x="360" y="32"/>
                </a:cubicBezTo>
                <a:cubicBezTo>
                  <a:pt x="363" y="69"/>
                  <a:pt x="324" y="181"/>
                  <a:pt x="288" y="200"/>
                </a:cubicBezTo>
                <a:cubicBezTo>
                  <a:pt x="273" y="207"/>
                  <a:pt x="256" y="205"/>
                  <a:pt x="240" y="208"/>
                </a:cubicBezTo>
                <a:cubicBezTo>
                  <a:pt x="173" y="202"/>
                  <a:pt x="118" y="219"/>
                  <a:pt x="96" y="152"/>
                </a:cubicBezTo>
                <a:cubicBezTo>
                  <a:pt x="104" y="108"/>
                  <a:pt x="91" y="81"/>
                  <a:pt x="136" y="96"/>
                </a:cubicBezTo>
                <a:cubicBezTo>
                  <a:pt x="98" y="133"/>
                  <a:pt x="119" y="120"/>
                  <a:pt x="48" y="136"/>
                </a:cubicBezTo>
                <a:cubicBezTo>
                  <a:pt x="32" y="139"/>
                  <a:pt x="0" y="144"/>
                  <a:pt x="0" y="144"/>
                </a:cubicBezTo>
              </a:path>
            </a:pathLst>
          </a:custGeom>
          <a:noFill/>
          <a:ln w="2232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818560" y="5657760"/>
            <a:ext cx="592200" cy="895320"/>
          </a:xfrm>
          <a:custGeom>
            <a:avLst/>
            <a:gdLst/>
            <a:ahLst/>
            <a:rect l="l" t="t" r="r" b="b"/>
            <a:pathLst>
              <a:path w="344" h="564">
                <a:moveTo>
                  <a:pt x="232" y="320"/>
                </a:moveTo>
                <a:cubicBezTo>
                  <a:pt x="182" y="287"/>
                  <a:pt x="177" y="288"/>
                  <a:pt x="200" y="232"/>
                </a:cubicBezTo>
                <a:cubicBezTo>
                  <a:pt x="205" y="240"/>
                  <a:pt x="220" y="247"/>
                  <a:pt x="216" y="256"/>
                </a:cubicBezTo>
                <a:cubicBezTo>
                  <a:pt x="206" y="272"/>
                  <a:pt x="168" y="288"/>
                  <a:pt x="168" y="288"/>
                </a:cubicBezTo>
                <a:cubicBezTo>
                  <a:pt x="132" y="279"/>
                  <a:pt x="94" y="255"/>
                  <a:pt x="128" y="208"/>
                </a:cubicBezTo>
                <a:cubicBezTo>
                  <a:pt x="150" y="175"/>
                  <a:pt x="183" y="174"/>
                  <a:pt x="216" y="168"/>
                </a:cubicBezTo>
                <a:cubicBezTo>
                  <a:pt x="242" y="176"/>
                  <a:pt x="278" y="170"/>
                  <a:pt x="296" y="192"/>
                </a:cubicBezTo>
                <a:cubicBezTo>
                  <a:pt x="325" y="226"/>
                  <a:pt x="344" y="320"/>
                  <a:pt x="344" y="320"/>
                </a:cubicBezTo>
                <a:cubicBezTo>
                  <a:pt x="326" y="409"/>
                  <a:pt x="337" y="410"/>
                  <a:pt x="256" y="424"/>
                </a:cubicBezTo>
                <a:cubicBezTo>
                  <a:pt x="200" y="405"/>
                  <a:pt x="231" y="373"/>
                  <a:pt x="264" y="352"/>
                </a:cubicBezTo>
                <a:cubicBezTo>
                  <a:pt x="336" y="376"/>
                  <a:pt x="327" y="426"/>
                  <a:pt x="336" y="496"/>
                </a:cubicBezTo>
                <a:cubicBezTo>
                  <a:pt x="320" y="556"/>
                  <a:pt x="285" y="546"/>
                  <a:pt x="224" y="560"/>
                </a:cubicBezTo>
                <a:cubicBezTo>
                  <a:pt x="64" y="528"/>
                  <a:pt x="57" y="564"/>
                  <a:pt x="40" y="440"/>
                </a:cubicBezTo>
                <a:cubicBezTo>
                  <a:pt x="48" y="398"/>
                  <a:pt x="52" y="366"/>
                  <a:pt x="96" y="352"/>
                </a:cubicBezTo>
                <a:cubicBezTo>
                  <a:pt x="118" y="385"/>
                  <a:pt x="121" y="401"/>
                  <a:pt x="112" y="440"/>
                </a:cubicBezTo>
                <a:cubicBezTo>
                  <a:pt x="22" y="417"/>
                  <a:pt x="15" y="283"/>
                  <a:pt x="0" y="208"/>
                </a:cubicBezTo>
                <a:cubicBezTo>
                  <a:pt x="6" y="120"/>
                  <a:pt x="8" y="63"/>
                  <a:pt x="72" y="0"/>
                </a:cubicBezTo>
                <a:cubicBezTo>
                  <a:pt x="148" y="10"/>
                  <a:pt x="175" y="7"/>
                  <a:pt x="232" y="64"/>
                </a:cubicBezTo>
                <a:cubicBezTo>
                  <a:pt x="224" y="85"/>
                  <a:pt x="224" y="111"/>
                  <a:pt x="208" y="128"/>
                </a:cubicBezTo>
                <a:cubicBezTo>
                  <a:pt x="201" y="134"/>
                  <a:pt x="190" y="113"/>
                  <a:pt x="192" y="104"/>
                </a:cubicBezTo>
                <a:cubicBezTo>
                  <a:pt x="193" y="94"/>
                  <a:pt x="208" y="93"/>
                  <a:pt x="216" y="88"/>
                </a:cubicBezTo>
                <a:cubicBezTo>
                  <a:pt x="267" y="105"/>
                  <a:pt x="252" y="92"/>
                  <a:pt x="272" y="112"/>
                </a:cubicBezTo>
              </a:path>
            </a:pathLst>
          </a:custGeom>
          <a:noFill/>
          <a:ln w="255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15520" y="2006640"/>
            <a:ext cx="136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TICOLOCI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548080" y="2666880"/>
            <a:ext cx="170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olamento mR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43040" y="4495680"/>
            <a:ext cx="1901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LONNA CON cDNA DELLA GLOB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298600" y="6172200"/>
            <a:ext cx="19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rricchimento mRN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ella glob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615280" y="6289560"/>
            <a:ext cx="174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raduzione in vi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177320" y="4876920"/>
            <a:ext cx="170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rdo talassem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272360" y="4191120"/>
            <a:ext cx="1852560" cy="3070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ssenza di prodot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391600" y="251460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4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ff04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0400"/>
                </a:solidFill>
                <a:latin typeface="Comic Sans MS"/>
              </a:rPr>
              <a:t>glob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8391600" y="64468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4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ff04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0400"/>
                </a:solidFill>
                <a:latin typeface="Comic Sans MS"/>
              </a:rPr>
              <a:t>glob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7099200" y="4647960"/>
            <a:ext cx="3304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8667720" y="3504960"/>
            <a:ext cx="247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594560" y="5715000"/>
            <a:ext cx="1155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622760" y="5791320"/>
            <a:ext cx="82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146320" y="2743200"/>
            <a:ext cx="247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394000" y="4038480"/>
            <a:ext cx="412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688880" y="593100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orm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400"/>
                </a:solidFill>
                <a:latin typeface="Comic Sans MS"/>
              </a:rPr>
              <a:t>Le mutazioni della </a:t>
            </a:r>
            <a:r>
              <a:rPr b="1" lang="en-US" sz="2800" spc="-1" strike="noStrike">
                <a:solidFill>
                  <a:srgbClr val="ff0400"/>
                </a:solidFill>
                <a:latin typeface="Symbol"/>
                <a:ea typeface="Symbol"/>
              </a:rPr>
              <a:t></a:t>
            </a:r>
            <a:r>
              <a:rPr b="1" lang="en-US" sz="2800" spc="-1" strike="noStrike">
                <a:solidFill>
                  <a:srgbClr val="ff0400"/>
                </a:solidFill>
                <a:latin typeface="Comic Sans MS"/>
              </a:rPr>
              <a:t>Thalassemia nelle diverse popolazioni</a:t>
            </a: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301680" y="1754280"/>
            <a:ext cx="8303400" cy="1618560"/>
            <a:chOff x="301680" y="1754280"/>
            <a:chExt cx="8303400" cy="1618560"/>
          </a:xfrm>
        </p:grpSpPr>
        <p:sp>
          <p:nvSpPr>
            <p:cNvPr id="706" name=""/>
            <p:cNvSpPr/>
            <p:nvPr/>
          </p:nvSpPr>
          <p:spPr>
            <a:xfrm>
              <a:off x="301680" y="1754280"/>
              <a:ext cx="83034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Sardegna:  codone 39 da glutamina a stop       proteina tronca      95 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odone 6   perdita di una base      frameshift           2.1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odone 76   perdita di una base          =                 0.7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ntrone1 110  G     A                  splicing alterato    0.5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ntrone2 745  C     G                      ==               0.4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480840" y="2959200"/>
              <a:ext cx="41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494520" y="3251160"/>
              <a:ext cx="41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428760" y="4713120"/>
            <a:ext cx="8267040" cy="1618560"/>
            <a:chOff x="428760" y="4713120"/>
            <a:chExt cx="8267040" cy="1618560"/>
          </a:xfrm>
        </p:grpSpPr>
        <p:sp>
          <p:nvSpPr>
            <p:cNvPr id="710" name=""/>
            <p:cNvSpPr/>
            <p:nvPr/>
          </p:nvSpPr>
          <p:spPr>
            <a:xfrm>
              <a:off x="428760" y="4713120"/>
              <a:ext cx="826704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Grecia:    codone 39  da glutamina a stop     proteina tronca       17.4 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ntrone1 1    G       A              splicing alterato      13.6 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ntrone1 6    T       C              splicing alterato       7.4 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ntrone1 110  G      A                    ==               43.7 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ntrone2 745  C      G                       ==               7.1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618000" y="5918040"/>
              <a:ext cx="41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632040" y="6210000"/>
              <a:ext cx="41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645720" y="5256000"/>
              <a:ext cx="41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659400" y="5547960"/>
              <a:ext cx="41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158400" y="3689280"/>
            <a:ext cx="9019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l delta del PO la mutazione piu’ frequente provoca un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per un segnale 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plicing ambigu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400"/>
                </a:solidFill>
                <a:latin typeface="Comic Sans MS"/>
              </a:rPr>
              <a:t>Le mutazioni della </a:t>
            </a:r>
            <a:r>
              <a:rPr b="1" lang="en-US" sz="2800" spc="-1" strike="noStrike">
                <a:solidFill>
                  <a:srgbClr val="ff0400"/>
                </a:solidFill>
                <a:latin typeface="Symbol"/>
                <a:ea typeface="Symbol"/>
              </a:rPr>
              <a:t></a:t>
            </a:r>
            <a:r>
              <a:rPr b="1" lang="en-US" sz="2800" spc="-1" strike="noStrike">
                <a:solidFill>
                  <a:srgbClr val="ff0400"/>
                </a:solidFill>
                <a:latin typeface="Comic Sans MS"/>
              </a:rPr>
              <a:t>Thalassemia nelle diverse popolazioni</a:t>
            </a: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717" name=""/>
          <p:cNvSpPr/>
          <p:nvPr/>
        </p:nvSpPr>
        <p:spPr>
          <a:xfrm>
            <a:off x="1007640" y="1754280"/>
            <a:ext cx="7131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ina  :  codone 41/42  -TCTT                    frameshift        38.6%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trone2 654   C      T                                       15.7%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done 71/76   + una base               frameshift        12.4%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-28G           A      G                                       11.6%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done 17      A      T                                       10.5%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384720" y="2959200"/>
            <a:ext cx="412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467160" y="3251160"/>
            <a:ext cx="412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91920" y="3571920"/>
            <a:ext cx="7628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akistan    codone 8/9  + una base                frameshift        28.9 %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trone1 5    G       C                                     26.4 %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lezione di 619bp                                          23.3%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trone1 1    G       T                                       8.2%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done 41/42  -TCTT                    frameshift        7.9%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728880" y="4114800"/>
            <a:ext cx="412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632040" y="4724280"/>
            <a:ext cx="412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549600" y="2286000"/>
            <a:ext cx="412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1252080" y="5413320"/>
            <a:ext cx="6633000" cy="1313640"/>
            <a:chOff x="1252080" y="5413320"/>
            <a:chExt cx="6633000" cy="1313640"/>
          </a:xfrm>
        </p:grpSpPr>
        <p:sp>
          <p:nvSpPr>
            <p:cNvPr id="725" name=""/>
            <p:cNvSpPr/>
            <p:nvPr/>
          </p:nvSpPr>
          <p:spPr>
            <a:xfrm>
              <a:off x="1252080" y="5413320"/>
              <a:ext cx="66330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Afro americani:  -29         A       G                                 60.3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88          C      T                                  21.4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odone 24    T     A                                    7.9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odone6     - una base                                 0.8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134600" y="5946840"/>
              <a:ext cx="41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051800" y="6327720"/>
              <a:ext cx="41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051800" y="5641920"/>
              <a:ext cx="41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400"/>
                </a:solidFill>
                <a:latin typeface="Comic Sans MS"/>
              </a:rPr>
              <a:t>Perche’ queste differenze?</a:t>
            </a: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730" name=""/>
          <p:cNvSpPr/>
          <p:nvPr/>
        </p:nvSpPr>
        <p:spPr>
          <a:xfrm>
            <a:off x="1816200" y="1371600"/>
            <a:ext cx="511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202"/>
                </a:solidFill>
                <a:latin typeface="Comic Sans MS"/>
              </a:rPr>
              <a:t>HARDY- WEINBE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7000" y="1752480"/>
            <a:ext cx="92016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una popolazion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infinitamente grand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in cui gli incroci avvengo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asualment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in cui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non vi siano mutazion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ne’ migrazion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ne’ selezion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equenze alleliche in locus con 2 alleli non cambiano nel tempo, e 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equenze genotipiche si stabilizzano secondo le proporzioni: 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+ 2pq + 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000" spc="-1" strike="noStrike">
                <a:solidFill>
                  <a:srgbClr val="ffff02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65240" y="3581280"/>
            <a:ext cx="97408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a sempre tenuto presente che H-W e’ un modello  matematico che ci fornisce “un’ipotesi zero” cioe’ un punto di partenza per saggiare gli effetti che possono modificare le frequenze alleliche: ci permette di individuare le forze che  fanno evolvere una popolazione natura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47680" y="4952880"/>
            <a:ext cx="94932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2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ndo esaminando una popolazione trovo che le frequenze genotipiche si discostano significativamente dall’atteso vuol dire che una delle condizioni e’ venuta m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400"/>
                </a:solidFill>
                <a:latin typeface="Comic Sans MS"/>
              </a:rPr>
              <a:t>Domande</a:t>
            </a: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735" name=""/>
          <p:cNvSpPr/>
          <p:nvPr/>
        </p:nvSpPr>
        <p:spPr>
          <a:xfrm>
            <a:off x="401400" y="1295280"/>
            <a:ext cx="841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erche’ gli alleli “thalassemici” hanno questa frequenza? N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ovrebbero spari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78280" y="2286000"/>
            <a:ext cx="9532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i : gli omozigoti e gli eterozigoti composti sono gravem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mpromessi e non si riproducono quindi ad ogni generazione una quo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 alleli si dovrebbe perdere e la frequenza dell’allele”malato” dovrebb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minuire drastica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91680" y="3809880"/>
            <a:ext cx="876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videntemente c’e’ stato qualcosa nel corso dell’evoluzione che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lcuni ambienti a favorito gli eterozigo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60440" y="4800600"/>
            <a:ext cx="89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 perche’ le mutazioni hanno frequenze diverse nelle popolazioni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42960" y="5562720"/>
            <a:ext cx="591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ffetto del fondatore o del collo di bottigl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46320" y="601200"/>
            <a:ext cx="4705200" cy="8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Cluster delle globine</a:t>
            </a:r>
            <a:endParaRPr b="1" lang="en-US" sz="32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57" name=""/>
          <p:cNvSpPr/>
          <p:nvPr/>
        </p:nvSpPr>
        <p:spPr>
          <a:xfrm>
            <a:off x="458640" y="1552680"/>
            <a:ext cx="88599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Derivano da duplicazione genica, per effetto dell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conversione genica rendono un locus </a:t>
            </a:r>
            <a:r>
              <a:rPr b="1" i="1" lang="en-US" sz="2200" spc="-1" strike="noStrike">
                <a:solidFill>
                  <a:srgbClr val="000000"/>
                </a:solidFill>
                <a:latin typeface="Comic Sans MS"/>
              </a:rPr>
              <a:t>hot-spot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di mutazi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28520" y="3048120"/>
            <a:ext cx="9119880" cy="742680"/>
            <a:chOff x="128520" y="3048120"/>
            <a:chExt cx="9119880" cy="742680"/>
          </a:xfrm>
        </p:grpSpPr>
        <p:sp>
          <p:nvSpPr>
            <p:cNvPr id="59" name=""/>
            <p:cNvSpPr/>
            <p:nvPr/>
          </p:nvSpPr>
          <p:spPr>
            <a:xfrm>
              <a:off x="2369880" y="3649680"/>
              <a:ext cx="687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86400" y="3508200"/>
              <a:ext cx="381600" cy="212760"/>
            </a:xfrm>
            <a:prstGeom prst="cube">
              <a:avLst>
                <a:gd name="adj" fmla="val 250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121360" y="3508200"/>
              <a:ext cx="381600" cy="212760"/>
            </a:xfrm>
            <a:prstGeom prst="cube">
              <a:avLst>
                <a:gd name="adj" fmla="val 250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809320" y="3508200"/>
              <a:ext cx="381600" cy="212760"/>
            </a:xfrm>
            <a:prstGeom prst="cube">
              <a:avLst>
                <a:gd name="adj" fmla="val 250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01480" y="3508200"/>
              <a:ext cx="536400" cy="2127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795440" y="3508200"/>
              <a:ext cx="534960" cy="2127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636760" y="3508200"/>
              <a:ext cx="381600" cy="212760"/>
            </a:xfrm>
            <a:prstGeom prst="cube">
              <a:avLst>
                <a:gd name="adj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133440" y="3508200"/>
              <a:ext cx="534600" cy="2127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98960" y="3048120"/>
              <a:ext cx="42912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412880" y="3121200"/>
              <a:ext cx="63468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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962960" y="3132000"/>
              <a:ext cx="6573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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657400" y="3132000"/>
              <a:ext cx="6573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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05800" y="3098880"/>
              <a:ext cx="47484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05520" y="3098880"/>
              <a:ext cx="47484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641080" y="3170160"/>
              <a:ext cx="34200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133440" y="379080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01480" y="3790800"/>
              <a:ext cx="383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73200" y="3790800"/>
              <a:ext cx="38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636760" y="3790800"/>
              <a:ext cx="3816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28520" y="3162240"/>
              <a:ext cx="196992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Raggruppament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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 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16p1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2370240" y="5192640"/>
            <a:ext cx="687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33760" y="5051520"/>
            <a:ext cx="534960" cy="21096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21360" y="5051520"/>
            <a:ext cx="534960" cy="21096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81840" y="5051520"/>
            <a:ext cx="380880" cy="210960"/>
          </a:xfrm>
          <a:prstGeom prst="cube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84880" y="5051520"/>
            <a:ext cx="534960" cy="21096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255160" y="5051520"/>
            <a:ext cx="534960" cy="21096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33800" y="5051520"/>
            <a:ext cx="534960" cy="21096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93920" y="4589640"/>
            <a:ext cx="31320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86600" y="4699080"/>
            <a:ext cx="6454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</a:t>
            </a: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20920" y="4675320"/>
            <a:ext cx="5630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163280" y="4641840"/>
            <a:ext cx="42912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258760" y="4641840"/>
            <a:ext cx="3513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33800" y="5334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84880" y="5334120"/>
            <a:ext cx="382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31120" y="5334120"/>
            <a:ext cx="382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26680" y="4699080"/>
            <a:ext cx="4928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0840" y="4586400"/>
            <a:ext cx="196992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Raggruppament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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 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11p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10080" y="5334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97320" y="53341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2680" y="1693800"/>
            <a:ext cx="92487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Derivano da duplicazione genica e accumulo progressivo di mutazion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6360" y="4303800"/>
            <a:ext cx="841320" cy="21096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92480" y="3809880"/>
            <a:ext cx="841320" cy="21132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92480" y="4867200"/>
            <a:ext cx="841320" cy="21276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33760" y="3809880"/>
            <a:ext cx="841680" cy="21132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33760" y="4867200"/>
            <a:ext cx="841680" cy="21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54840" y="4586400"/>
            <a:ext cx="841320" cy="210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54840" y="3809880"/>
            <a:ext cx="841320" cy="21132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54840" y="5361120"/>
            <a:ext cx="841320" cy="212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280" y="3879720"/>
            <a:ext cx="3358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46200" y="3597120"/>
            <a:ext cx="687600" cy="141480"/>
          </a:xfrm>
          <a:custGeom>
            <a:avLst/>
            <a:gdLst>
              <a:gd name="textAreaLeft" fmla="*/ 120240 w 687600"/>
              <a:gd name="textAreaRight" fmla="*/ 498600 w 687600"/>
              <a:gd name="textAreaTop" fmla="*/ 18720 h 141480"/>
              <a:gd name="textAreaBottom" fmla="*/ 1227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10080" y="3597120"/>
            <a:ext cx="687240" cy="141480"/>
          </a:xfrm>
          <a:custGeom>
            <a:avLst/>
            <a:gdLst>
              <a:gd name="textAreaLeft" fmla="*/ 120240 w 687240"/>
              <a:gd name="textAreaRight" fmla="*/ 498240 w 687240"/>
              <a:gd name="textAreaTop" fmla="*/ 18720 h 141480"/>
              <a:gd name="textAreaBottom" fmla="*/ 1227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32600" y="3597120"/>
            <a:ext cx="687240" cy="141480"/>
          </a:xfrm>
          <a:custGeom>
            <a:avLst/>
            <a:gdLst>
              <a:gd name="textAreaLeft" fmla="*/ 120240 w 687240"/>
              <a:gd name="textAreaRight" fmla="*/ 498240 w 687240"/>
              <a:gd name="textAreaTop" fmla="*/ 18720 h 141480"/>
              <a:gd name="textAreaBottom" fmla="*/ 1227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32600" y="4373640"/>
            <a:ext cx="687240" cy="141120"/>
          </a:xfrm>
          <a:custGeom>
            <a:avLst/>
            <a:gdLst>
              <a:gd name="textAreaLeft" fmla="*/ 120240 w 687240"/>
              <a:gd name="textAreaRight" fmla="*/ 498240 w 687240"/>
              <a:gd name="textAreaTop" fmla="*/ 18720 h 141120"/>
              <a:gd name="textAreaBottom" fmla="*/ 122400 h 141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5480" y="3244680"/>
            <a:ext cx="1164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pressio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selettiv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22200" y="4373640"/>
            <a:ext cx="689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911240" y="4020840"/>
            <a:ext cx="459000" cy="352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11240" y="4373640"/>
            <a:ext cx="381240" cy="423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58920" y="4021200"/>
            <a:ext cx="14529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duplicazio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genic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11560" y="3879720"/>
            <a:ext cx="106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11560" y="5008680"/>
            <a:ext cx="106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78560" y="3879720"/>
            <a:ext cx="1071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593680" y="4630680"/>
            <a:ext cx="1188720" cy="29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94040" y="5087520"/>
            <a:ext cx="1188000" cy="299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56960" y="4168800"/>
            <a:ext cx="1741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diversificazio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800480" y="3668760"/>
            <a:ext cx="3358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86400" y="3809880"/>
            <a:ext cx="0" cy="211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107120" y="3809880"/>
            <a:ext cx="0" cy="211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224920" y="3668760"/>
            <a:ext cx="1406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Funzio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origina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224920" y="4408560"/>
            <a:ext cx="1406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Funzio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correlat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05520" y="4444920"/>
            <a:ext cx="4730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A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4520" y="5222880"/>
            <a:ext cx="5004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255160" y="5149800"/>
            <a:ext cx="1404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Nessun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funzio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09640" y="3457440"/>
            <a:ext cx="6818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lent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71320" y="4514760"/>
            <a:ext cx="8251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rapid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934960" y="4425840"/>
            <a:ext cx="3160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12720" y="4848120"/>
            <a:ext cx="3160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Evoluzione delle globine</a:t>
            </a:r>
            <a:endParaRPr b="1" lang="en-US" sz="32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130800" y="5592600"/>
            <a:ext cx="137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90960" y="4373640"/>
            <a:ext cx="229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2640" y="1622520"/>
            <a:ext cx="870264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Le LCR si trovano a monte dei raggruppamenti e la loro funzione sarebbe quella d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organizzare il raggruppamento in un dominio di cromatina attiva, agendo come </a:t>
            </a:r>
            <a:r>
              <a:rPr b="0" i="1" lang="en-US" sz="1500" spc="-1" strike="noStrike">
                <a:solidFill>
                  <a:srgbClr val="000000"/>
                </a:solidFill>
                <a:latin typeface="Comic Sans MS"/>
              </a:rPr>
              <a:t>enhancer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160" y="2540160"/>
            <a:ext cx="911592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La cromatina attiva si presenta sensibile alla Dnasi I e grazie a questa caratteristic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sono state identificate le LCR per i due aggruppameni globinici. E’ stato anche possibil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riconoscere che questa ipersensibilita’ e’ modulata nei diversi stadi di svilupp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096480" y="6278400"/>
            <a:ext cx="609480" cy="282600"/>
          </a:xfrm>
          <a:custGeom>
            <a:avLst/>
            <a:gdLst>
              <a:gd name="textAreaLeft" fmla="*/ 95040 w 609480"/>
              <a:gd name="textAreaRight" fmla="*/ 533520 w 609480"/>
              <a:gd name="textAreaTop" fmla="*/ 70560 h 282600"/>
              <a:gd name="textAreaBottom" fmla="*/ 212040 h 282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51120" y="4232160"/>
            <a:ext cx="534960" cy="35424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8920" y="4092480"/>
            <a:ext cx="382320" cy="5637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75440" y="4232160"/>
            <a:ext cx="534960" cy="35424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948440" y="4232160"/>
            <a:ext cx="535320" cy="35424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84880" y="4232160"/>
            <a:ext cx="534960" cy="35424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790120" y="4232160"/>
            <a:ext cx="534960" cy="35424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39000" y="4232160"/>
            <a:ext cx="534960" cy="35424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56000" y="4232160"/>
            <a:ext cx="534960" cy="35424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7680" y="43736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11240" y="4373640"/>
            <a:ext cx="83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86080" y="4373640"/>
            <a:ext cx="106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719840" y="4373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483760" y="4373640"/>
            <a:ext cx="30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-9720" y="4164120"/>
            <a:ext cx="11437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globin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59160" y="3846600"/>
            <a:ext cx="1282320" cy="3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HS-40        </a:t>
            </a:r>
            <a:r>
              <a:rPr b="1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2680" y="3780000"/>
            <a:ext cx="483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292360" y="3774960"/>
            <a:ext cx="5036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43320" y="3795840"/>
            <a:ext cx="5036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61200" y="41623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102520" y="416232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942400" y="4162320"/>
            <a:ext cx="382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193880" y="3809880"/>
            <a:ext cx="402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35200" y="3821040"/>
            <a:ext cx="402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865720" y="3857760"/>
            <a:ext cx="2948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62400" y="5433840"/>
            <a:ext cx="536400" cy="35244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35280" y="5292720"/>
            <a:ext cx="380880" cy="5634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595840" y="5451480"/>
            <a:ext cx="534960" cy="35244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713800" y="5432400"/>
            <a:ext cx="534960" cy="35244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489800" y="5432400"/>
            <a:ext cx="536760" cy="35244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59400" y="5451480"/>
            <a:ext cx="534960" cy="35244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78200" y="5451480"/>
            <a:ext cx="535320" cy="35244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69920" y="5575320"/>
            <a:ext cx="76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16160" y="5575320"/>
            <a:ext cx="114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14640" y="5592600"/>
            <a:ext cx="76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026560" y="5573880"/>
            <a:ext cx="68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70240" y="5292720"/>
            <a:ext cx="380880" cy="5634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00320" y="5292720"/>
            <a:ext cx="382320" cy="5634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13520" y="5592600"/>
            <a:ext cx="38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248760" y="5573880"/>
            <a:ext cx="68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74680" y="4932360"/>
            <a:ext cx="158724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HS-4  HS-3 HS-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0160" y="5081760"/>
            <a:ext cx="6094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40160" y="536256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38680" y="5432400"/>
            <a:ext cx="382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656320" y="5381640"/>
            <a:ext cx="382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97640" y="538164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567560" y="53611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790120" y="53611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30680" y="5019840"/>
            <a:ext cx="43524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77480" y="5027760"/>
            <a:ext cx="41688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18800" y="5099040"/>
            <a:ext cx="4611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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66840" y="5079960"/>
            <a:ext cx="2887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712720" y="5067360"/>
            <a:ext cx="3024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-7200" y="5332320"/>
            <a:ext cx="11484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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globin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ontrollo dei cluster globinici</a:t>
            </a:r>
            <a:endParaRPr b="1" lang="en-US" sz="32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080" y="456840"/>
            <a:ext cx="965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400"/>
                </a:solidFill>
                <a:latin typeface="Comic Sans MS"/>
              </a:rPr>
              <a:t>Sintesi globine nella vita fetale ed adulta</a:t>
            </a:r>
            <a:endParaRPr b="1" lang="en-US" sz="19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5025960" y="171612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073160" y="1447920"/>
            <a:ext cx="8039520" cy="3290760"/>
            <a:chOff x="1073160" y="1447920"/>
            <a:chExt cx="8039520" cy="3290760"/>
          </a:xfrm>
        </p:grpSpPr>
        <p:sp>
          <p:nvSpPr>
            <p:cNvPr id="198" name=""/>
            <p:cNvSpPr/>
            <p:nvPr/>
          </p:nvSpPr>
          <p:spPr>
            <a:xfrm>
              <a:off x="1073160" y="1746360"/>
              <a:ext cx="7925040" cy="2992320"/>
            </a:xfrm>
            <a:custGeom>
              <a:avLst/>
              <a:gdLst/>
              <a:ahLst/>
              <a:rect l="l" t="t" r="r" b="b"/>
              <a:pathLst>
                <a:path w="4608" h="1885">
                  <a:moveTo>
                    <a:pt x="0" y="1885"/>
                  </a:moveTo>
                  <a:cubicBezTo>
                    <a:pt x="10" y="1809"/>
                    <a:pt x="21" y="1734"/>
                    <a:pt x="40" y="1661"/>
                  </a:cubicBezTo>
                  <a:cubicBezTo>
                    <a:pt x="37" y="1610"/>
                    <a:pt x="32" y="1559"/>
                    <a:pt x="32" y="1509"/>
                  </a:cubicBezTo>
                  <a:cubicBezTo>
                    <a:pt x="32" y="1343"/>
                    <a:pt x="52" y="1437"/>
                    <a:pt x="32" y="1357"/>
                  </a:cubicBezTo>
                  <a:cubicBezTo>
                    <a:pt x="39" y="1302"/>
                    <a:pt x="41" y="1210"/>
                    <a:pt x="72" y="1165"/>
                  </a:cubicBezTo>
                  <a:cubicBezTo>
                    <a:pt x="130" y="1077"/>
                    <a:pt x="179" y="1009"/>
                    <a:pt x="216" y="901"/>
                  </a:cubicBezTo>
                  <a:cubicBezTo>
                    <a:pt x="263" y="759"/>
                    <a:pt x="349" y="659"/>
                    <a:pt x="448" y="549"/>
                  </a:cubicBezTo>
                  <a:cubicBezTo>
                    <a:pt x="483" y="509"/>
                    <a:pt x="512" y="464"/>
                    <a:pt x="552" y="429"/>
                  </a:cubicBezTo>
                  <a:cubicBezTo>
                    <a:pt x="671" y="321"/>
                    <a:pt x="955" y="224"/>
                    <a:pt x="1048" y="181"/>
                  </a:cubicBezTo>
                  <a:cubicBezTo>
                    <a:pt x="1093" y="159"/>
                    <a:pt x="1177" y="110"/>
                    <a:pt x="1240" y="101"/>
                  </a:cubicBezTo>
                  <a:cubicBezTo>
                    <a:pt x="1596" y="44"/>
                    <a:pt x="1970" y="59"/>
                    <a:pt x="2328" y="53"/>
                  </a:cubicBezTo>
                  <a:cubicBezTo>
                    <a:pt x="2717" y="61"/>
                    <a:pt x="3106" y="45"/>
                    <a:pt x="3496" y="61"/>
                  </a:cubicBezTo>
                  <a:cubicBezTo>
                    <a:pt x="3641" y="31"/>
                    <a:pt x="3758" y="29"/>
                    <a:pt x="3920" y="21"/>
                  </a:cubicBezTo>
                  <a:cubicBezTo>
                    <a:pt x="3944" y="16"/>
                    <a:pt x="3967" y="0"/>
                    <a:pt x="3992" y="5"/>
                  </a:cubicBezTo>
                  <a:cubicBezTo>
                    <a:pt x="4016" y="9"/>
                    <a:pt x="4038" y="26"/>
                    <a:pt x="4064" y="29"/>
                  </a:cubicBezTo>
                  <a:cubicBezTo>
                    <a:pt x="4170" y="37"/>
                    <a:pt x="4277" y="44"/>
                    <a:pt x="4384" y="53"/>
                  </a:cubicBezTo>
                  <a:cubicBezTo>
                    <a:pt x="4444" y="73"/>
                    <a:pt x="4393" y="58"/>
                    <a:pt x="4520" y="69"/>
                  </a:cubicBezTo>
                  <a:cubicBezTo>
                    <a:pt x="4605" y="76"/>
                    <a:pt x="4580" y="96"/>
                    <a:pt x="4608" y="69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803800" y="144792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880920" y="2414520"/>
            <a:ext cx="8605800" cy="2489400"/>
            <a:chOff x="880920" y="2414520"/>
            <a:chExt cx="8605800" cy="2489400"/>
          </a:xfrm>
        </p:grpSpPr>
        <p:sp>
          <p:nvSpPr>
            <p:cNvPr id="201" name=""/>
            <p:cNvSpPr/>
            <p:nvPr/>
          </p:nvSpPr>
          <p:spPr>
            <a:xfrm>
              <a:off x="880920" y="2414520"/>
              <a:ext cx="8378280" cy="2408400"/>
            </a:xfrm>
            <a:custGeom>
              <a:avLst/>
              <a:gdLst/>
              <a:ahLst/>
              <a:rect l="l" t="t" r="r" b="b"/>
              <a:pathLst>
                <a:path w="4872" h="1517">
                  <a:moveTo>
                    <a:pt x="0" y="952"/>
                  </a:moveTo>
                  <a:cubicBezTo>
                    <a:pt x="37" y="944"/>
                    <a:pt x="74" y="937"/>
                    <a:pt x="112" y="928"/>
                  </a:cubicBezTo>
                  <a:cubicBezTo>
                    <a:pt x="128" y="923"/>
                    <a:pt x="160" y="912"/>
                    <a:pt x="160" y="912"/>
                  </a:cubicBezTo>
                  <a:cubicBezTo>
                    <a:pt x="200" y="881"/>
                    <a:pt x="257" y="842"/>
                    <a:pt x="304" y="824"/>
                  </a:cubicBezTo>
                  <a:cubicBezTo>
                    <a:pt x="349" y="778"/>
                    <a:pt x="408" y="755"/>
                    <a:pt x="456" y="712"/>
                  </a:cubicBezTo>
                  <a:cubicBezTo>
                    <a:pt x="567" y="612"/>
                    <a:pt x="401" y="749"/>
                    <a:pt x="560" y="600"/>
                  </a:cubicBezTo>
                  <a:cubicBezTo>
                    <a:pt x="582" y="579"/>
                    <a:pt x="610" y="565"/>
                    <a:pt x="632" y="544"/>
                  </a:cubicBezTo>
                  <a:cubicBezTo>
                    <a:pt x="670" y="505"/>
                    <a:pt x="703" y="460"/>
                    <a:pt x="744" y="424"/>
                  </a:cubicBezTo>
                  <a:cubicBezTo>
                    <a:pt x="763" y="406"/>
                    <a:pt x="803" y="376"/>
                    <a:pt x="824" y="352"/>
                  </a:cubicBezTo>
                  <a:cubicBezTo>
                    <a:pt x="863" y="305"/>
                    <a:pt x="897" y="248"/>
                    <a:pt x="944" y="208"/>
                  </a:cubicBezTo>
                  <a:cubicBezTo>
                    <a:pt x="964" y="189"/>
                    <a:pt x="993" y="183"/>
                    <a:pt x="1016" y="168"/>
                  </a:cubicBezTo>
                  <a:cubicBezTo>
                    <a:pt x="1083" y="121"/>
                    <a:pt x="1147" y="69"/>
                    <a:pt x="1216" y="24"/>
                  </a:cubicBezTo>
                  <a:cubicBezTo>
                    <a:pt x="1360" y="38"/>
                    <a:pt x="1503" y="25"/>
                    <a:pt x="1648" y="16"/>
                  </a:cubicBezTo>
                  <a:cubicBezTo>
                    <a:pt x="1708" y="0"/>
                    <a:pt x="1771" y="20"/>
                    <a:pt x="1832" y="32"/>
                  </a:cubicBezTo>
                  <a:cubicBezTo>
                    <a:pt x="1911" y="71"/>
                    <a:pt x="1990" y="111"/>
                    <a:pt x="2064" y="160"/>
                  </a:cubicBezTo>
                  <a:cubicBezTo>
                    <a:pt x="2105" y="283"/>
                    <a:pt x="2057" y="155"/>
                    <a:pt x="2096" y="232"/>
                  </a:cubicBezTo>
                  <a:cubicBezTo>
                    <a:pt x="2113" y="267"/>
                    <a:pt x="2110" y="301"/>
                    <a:pt x="2136" y="336"/>
                  </a:cubicBezTo>
                  <a:cubicBezTo>
                    <a:pt x="2147" y="351"/>
                    <a:pt x="2163" y="361"/>
                    <a:pt x="2176" y="376"/>
                  </a:cubicBezTo>
                  <a:cubicBezTo>
                    <a:pt x="2205" y="410"/>
                    <a:pt x="2174" y="394"/>
                    <a:pt x="2216" y="408"/>
                  </a:cubicBezTo>
                  <a:cubicBezTo>
                    <a:pt x="2234" y="424"/>
                    <a:pt x="2252" y="440"/>
                    <a:pt x="2272" y="456"/>
                  </a:cubicBezTo>
                  <a:cubicBezTo>
                    <a:pt x="2290" y="470"/>
                    <a:pt x="2310" y="481"/>
                    <a:pt x="2328" y="496"/>
                  </a:cubicBezTo>
                  <a:cubicBezTo>
                    <a:pt x="2356" y="518"/>
                    <a:pt x="2370" y="545"/>
                    <a:pt x="2400" y="568"/>
                  </a:cubicBezTo>
                  <a:cubicBezTo>
                    <a:pt x="2426" y="648"/>
                    <a:pt x="2502" y="718"/>
                    <a:pt x="2560" y="776"/>
                  </a:cubicBezTo>
                  <a:cubicBezTo>
                    <a:pt x="2642" y="858"/>
                    <a:pt x="2528" y="719"/>
                    <a:pt x="2640" y="840"/>
                  </a:cubicBezTo>
                  <a:cubicBezTo>
                    <a:pt x="2697" y="902"/>
                    <a:pt x="2720" y="986"/>
                    <a:pt x="2776" y="1048"/>
                  </a:cubicBezTo>
                  <a:cubicBezTo>
                    <a:pt x="2808" y="1083"/>
                    <a:pt x="2847" y="1087"/>
                    <a:pt x="2872" y="1136"/>
                  </a:cubicBezTo>
                  <a:cubicBezTo>
                    <a:pt x="2877" y="1146"/>
                    <a:pt x="2879" y="1159"/>
                    <a:pt x="2888" y="1168"/>
                  </a:cubicBezTo>
                  <a:cubicBezTo>
                    <a:pt x="2924" y="1204"/>
                    <a:pt x="3003" y="1255"/>
                    <a:pt x="3056" y="1264"/>
                  </a:cubicBezTo>
                  <a:cubicBezTo>
                    <a:pt x="3093" y="1269"/>
                    <a:pt x="3168" y="1280"/>
                    <a:pt x="3168" y="1280"/>
                  </a:cubicBezTo>
                  <a:cubicBezTo>
                    <a:pt x="3230" y="1300"/>
                    <a:pt x="3265" y="1356"/>
                    <a:pt x="3328" y="1384"/>
                  </a:cubicBezTo>
                  <a:cubicBezTo>
                    <a:pt x="3451" y="1438"/>
                    <a:pt x="3588" y="1442"/>
                    <a:pt x="3720" y="1448"/>
                  </a:cubicBezTo>
                  <a:cubicBezTo>
                    <a:pt x="4046" y="1517"/>
                    <a:pt x="4323" y="1501"/>
                    <a:pt x="4664" y="1496"/>
                  </a:cubicBezTo>
                  <a:cubicBezTo>
                    <a:pt x="4823" y="1477"/>
                    <a:pt x="4754" y="1480"/>
                    <a:pt x="4872" y="148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176400" y="453564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866880" y="3303720"/>
            <a:ext cx="852120" cy="1473120"/>
            <a:chOff x="866880" y="3303720"/>
            <a:chExt cx="852120" cy="1473120"/>
          </a:xfrm>
        </p:grpSpPr>
        <p:sp>
          <p:nvSpPr>
            <p:cNvPr id="204" name=""/>
            <p:cNvSpPr/>
            <p:nvPr/>
          </p:nvSpPr>
          <p:spPr>
            <a:xfrm>
              <a:off x="866880" y="3303720"/>
              <a:ext cx="852120" cy="1473120"/>
            </a:xfrm>
            <a:custGeom>
              <a:avLst/>
              <a:gdLst/>
              <a:ahLst/>
              <a:rect l="l" t="t" r="r" b="b"/>
              <a:pathLst>
                <a:path w="496" h="928">
                  <a:moveTo>
                    <a:pt x="0" y="0"/>
                  </a:moveTo>
                  <a:cubicBezTo>
                    <a:pt x="29" y="72"/>
                    <a:pt x="27" y="148"/>
                    <a:pt x="72" y="216"/>
                  </a:cubicBezTo>
                  <a:cubicBezTo>
                    <a:pt x="88" y="282"/>
                    <a:pt x="68" y="216"/>
                    <a:pt x="96" y="272"/>
                  </a:cubicBezTo>
                  <a:cubicBezTo>
                    <a:pt x="115" y="310"/>
                    <a:pt x="110" y="335"/>
                    <a:pt x="136" y="376"/>
                  </a:cubicBezTo>
                  <a:cubicBezTo>
                    <a:pt x="146" y="392"/>
                    <a:pt x="168" y="424"/>
                    <a:pt x="168" y="424"/>
                  </a:cubicBezTo>
                  <a:cubicBezTo>
                    <a:pt x="183" y="518"/>
                    <a:pt x="205" y="611"/>
                    <a:pt x="232" y="704"/>
                  </a:cubicBezTo>
                  <a:cubicBezTo>
                    <a:pt x="243" y="745"/>
                    <a:pt x="245" y="772"/>
                    <a:pt x="272" y="808"/>
                  </a:cubicBezTo>
                  <a:cubicBezTo>
                    <a:pt x="307" y="914"/>
                    <a:pt x="396" y="928"/>
                    <a:pt x="496" y="928"/>
                  </a:cubicBezTo>
                </a:path>
              </a:pathLst>
            </a:custGeom>
            <a:noFill/>
            <a:ln w="19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428480" y="4397400"/>
              <a:ext cx="27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073160" y="1944720"/>
            <a:ext cx="8061840" cy="2941560"/>
            <a:chOff x="1073160" y="1944720"/>
            <a:chExt cx="8061840" cy="2941560"/>
          </a:xfrm>
        </p:grpSpPr>
        <p:sp>
          <p:nvSpPr>
            <p:cNvPr id="207" name=""/>
            <p:cNvSpPr/>
            <p:nvPr/>
          </p:nvSpPr>
          <p:spPr>
            <a:xfrm>
              <a:off x="1073160" y="1970280"/>
              <a:ext cx="7993440" cy="2916000"/>
            </a:xfrm>
            <a:custGeom>
              <a:avLst/>
              <a:gdLst/>
              <a:ahLst/>
              <a:rect l="l" t="t" r="r" b="b"/>
              <a:pathLst>
                <a:path w="4648" h="1837">
                  <a:moveTo>
                    <a:pt x="0" y="1816"/>
                  </a:moveTo>
                  <a:cubicBezTo>
                    <a:pt x="65" y="1837"/>
                    <a:pt x="117" y="1783"/>
                    <a:pt x="176" y="1768"/>
                  </a:cubicBezTo>
                  <a:cubicBezTo>
                    <a:pt x="207" y="1759"/>
                    <a:pt x="272" y="1744"/>
                    <a:pt x="272" y="1744"/>
                  </a:cubicBezTo>
                  <a:cubicBezTo>
                    <a:pt x="320" y="1716"/>
                    <a:pt x="360" y="1663"/>
                    <a:pt x="416" y="1656"/>
                  </a:cubicBezTo>
                  <a:cubicBezTo>
                    <a:pt x="570" y="1633"/>
                    <a:pt x="724" y="1620"/>
                    <a:pt x="880" y="1608"/>
                  </a:cubicBezTo>
                  <a:cubicBezTo>
                    <a:pt x="944" y="1586"/>
                    <a:pt x="864" y="1608"/>
                    <a:pt x="928" y="1608"/>
                  </a:cubicBezTo>
                  <a:cubicBezTo>
                    <a:pt x="1098" y="1608"/>
                    <a:pt x="1269" y="1595"/>
                    <a:pt x="1440" y="1592"/>
                  </a:cubicBezTo>
                  <a:cubicBezTo>
                    <a:pt x="1547" y="1584"/>
                    <a:pt x="1705" y="1591"/>
                    <a:pt x="1816" y="1552"/>
                  </a:cubicBezTo>
                  <a:cubicBezTo>
                    <a:pt x="1909" y="1518"/>
                    <a:pt x="1982" y="1451"/>
                    <a:pt x="2080" y="1432"/>
                  </a:cubicBezTo>
                  <a:cubicBezTo>
                    <a:pt x="2208" y="1354"/>
                    <a:pt x="2334" y="1279"/>
                    <a:pt x="2480" y="1240"/>
                  </a:cubicBezTo>
                  <a:cubicBezTo>
                    <a:pt x="2570" y="1188"/>
                    <a:pt x="2528" y="1205"/>
                    <a:pt x="2584" y="1120"/>
                  </a:cubicBezTo>
                  <a:cubicBezTo>
                    <a:pt x="2627" y="1053"/>
                    <a:pt x="2614" y="1089"/>
                    <a:pt x="2664" y="1040"/>
                  </a:cubicBezTo>
                  <a:cubicBezTo>
                    <a:pt x="2717" y="986"/>
                    <a:pt x="2768" y="906"/>
                    <a:pt x="2832" y="864"/>
                  </a:cubicBezTo>
                  <a:cubicBezTo>
                    <a:pt x="2923" y="727"/>
                    <a:pt x="3074" y="676"/>
                    <a:pt x="3208" y="600"/>
                  </a:cubicBezTo>
                  <a:cubicBezTo>
                    <a:pt x="3263" y="568"/>
                    <a:pt x="3302" y="490"/>
                    <a:pt x="3344" y="464"/>
                  </a:cubicBezTo>
                  <a:cubicBezTo>
                    <a:pt x="3433" y="407"/>
                    <a:pt x="3623" y="360"/>
                    <a:pt x="3696" y="328"/>
                  </a:cubicBezTo>
                  <a:cubicBezTo>
                    <a:pt x="3737" y="309"/>
                    <a:pt x="3854" y="223"/>
                    <a:pt x="3920" y="208"/>
                  </a:cubicBezTo>
                  <a:cubicBezTo>
                    <a:pt x="3977" y="194"/>
                    <a:pt x="4085" y="176"/>
                    <a:pt x="4152" y="168"/>
                  </a:cubicBezTo>
                  <a:cubicBezTo>
                    <a:pt x="4186" y="133"/>
                    <a:pt x="4208" y="75"/>
                    <a:pt x="4256" y="64"/>
                  </a:cubicBezTo>
                  <a:cubicBezTo>
                    <a:pt x="4335" y="44"/>
                    <a:pt x="4409" y="28"/>
                    <a:pt x="4488" y="0"/>
                  </a:cubicBezTo>
                  <a:cubicBezTo>
                    <a:pt x="4599" y="10"/>
                    <a:pt x="4546" y="8"/>
                    <a:pt x="4648" y="8"/>
                  </a:cubicBezTo>
                </a:path>
              </a:pathLst>
            </a:custGeom>
            <a:noFill/>
            <a:ln w="190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829360" y="194472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525920" y="4157640"/>
            <a:ext cx="4850640" cy="746280"/>
            <a:chOff x="4525920" y="4157640"/>
            <a:chExt cx="4850640" cy="746280"/>
          </a:xfrm>
        </p:grpSpPr>
        <p:sp>
          <p:nvSpPr>
            <p:cNvPr id="210" name=""/>
            <p:cNvSpPr/>
            <p:nvPr/>
          </p:nvSpPr>
          <p:spPr>
            <a:xfrm>
              <a:off x="4525920" y="4471920"/>
              <a:ext cx="4651560" cy="432000"/>
            </a:xfrm>
            <a:custGeom>
              <a:avLst/>
              <a:gdLst/>
              <a:ahLst/>
              <a:rect l="l" t="t" r="r" b="b"/>
              <a:pathLst>
                <a:path w="2704" h="272">
                  <a:moveTo>
                    <a:pt x="0" y="272"/>
                  </a:moveTo>
                  <a:cubicBezTo>
                    <a:pt x="155" y="233"/>
                    <a:pt x="320" y="233"/>
                    <a:pt x="480" y="224"/>
                  </a:cubicBezTo>
                  <a:cubicBezTo>
                    <a:pt x="619" y="189"/>
                    <a:pt x="797" y="206"/>
                    <a:pt x="944" y="200"/>
                  </a:cubicBezTo>
                  <a:cubicBezTo>
                    <a:pt x="1175" y="212"/>
                    <a:pt x="1399" y="213"/>
                    <a:pt x="1632" y="208"/>
                  </a:cubicBezTo>
                  <a:cubicBezTo>
                    <a:pt x="1769" y="199"/>
                    <a:pt x="1884" y="190"/>
                    <a:pt x="2016" y="176"/>
                  </a:cubicBezTo>
                  <a:cubicBezTo>
                    <a:pt x="2123" y="149"/>
                    <a:pt x="2235" y="142"/>
                    <a:pt x="2344" y="120"/>
                  </a:cubicBezTo>
                  <a:cubicBezTo>
                    <a:pt x="2427" y="102"/>
                    <a:pt x="2508" y="75"/>
                    <a:pt x="2592" y="64"/>
                  </a:cubicBezTo>
                  <a:cubicBezTo>
                    <a:pt x="2613" y="55"/>
                    <a:pt x="2637" y="52"/>
                    <a:pt x="2656" y="40"/>
                  </a:cubicBezTo>
                  <a:cubicBezTo>
                    <a:pt x="2665" y="33"/>
                    <a:pt x="2671" y="23"/>
                    <a:pt x="2680" y="16"/>
                  </a:cubicBezTo>
                  <a:cubicBezTo>
                    <a:pt x="2687" y="9"/>
                    <a:pt x="2704" y="0"/>
                    <a:pt x="2704" y="0"/>
                  </a:cubicBezTo>
                </a:path>
              </a:pathLst>
            </a:custGeom>
            <a:noFill/>
            <a:ln w="1908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083160" y="4157640"/>
              <a:ext cx="29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83960" y="1716120"/>
            <a:ext cx="9391320" cy="4300560"/>
            <a:chOff x="183960" y="1716120"/>
            <a:chExt cx="9391320" cy="4300560"/>
          </a:xfrm>
        </p:grpSpPr>
        <p:sp>
          <p:nvSpPr>
            <p:cNvPr id="213" name=""/>
            <p:cNvSpPr/>
            <p:nvPr/>
          </p:nvSpPr>
          <p:spPr>
            <a:xfrm>
              <a:off x="743040" y="1716120"/>
              <a:ext cx="0" cy="335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8160" y="4916520"/>
              <a:ext cx="891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43040" y="5678640"/>
              <a:ext cx="8832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68200" y="5648400"/>
              <a:ext cx="213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Settimane di vi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591800" y="4992840"/>
              <a:ext cx="826920" cy="307080"/>
            </a:xfrm>
            <a:prstGeom prst="rect">
              <a:avLst/>
            </a:prstGeom>
            <a:gradFill rotWithShape="0">
              <a:gsLst>
                <a:gs pos="0">
                  <a:srgbClr val="70f1ff"/>
                </a:gs>
                <a:gs pos="100000">
                  <a:srgbClr val="ffb5e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nasci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79600" y="4995720"/>
              <a:ext cx="72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6        12       18      24      30       36                        6        12       18       24       30       36       4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219400" y="5297400"/>
              <a:ext cx="98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prenat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13960" y="5297400"/>
              <a:ext cx="106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postnat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10800000">
              <a:off x="183960" y="2376000"/>
              <a:ext cx="454680" cy="113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quantita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571320" y="6002280"/>
            <a:ext cx="335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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emoglobina embri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440000" y="6370560"/>
            <a:ext cx="27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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emoglobina fet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90680" y="5999040"/>
            <a:ext cx="22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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emoglobin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820120" y="6303960"/>
            <a:ext cx="235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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emoglobinaA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400"/>
                </a:solidFill>
                <a:latin typeface="Comic Sans MS"/>
              </a:rPr>
              <a:t>Le thalassemie</a:t>
            </a: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227" name=""/>
          <p:cNvSpPr/>
          <p:nvPr/>
        </p:nvSpPr>
        <p:spPr>
          <a:xfrm>
            <a:off x="412920" y="914400"/>
            <a:ext cx="9327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ruppo di malattie ereditarie determinate dall’alterato rapporto fra le catene alfa e beta, per cui si hanno molecole di emoglobina aberran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2920" y="2286000"/>
            <a:ext cx="932796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alassemia alfa : catene alfa ridotte o ass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alassemia beta: catene beta ridotte o ass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2920" y="3124080"/>
            <a:ext cx="932796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ono autosomiche recessive, ma possono essere manifestate anche in eterozigos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360" y="4038480"/>
            <a:ext cx="9327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n sono uniformemente distribuite nel mondo, hanno prevalenza massima in alcune ar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2920" y="5105520"/>
            <a:ext cx="9327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 ogni popolazione si trovano un numero molto limitato di mutazioni, ma una mutazione rara o assente in una popolazione puo’ risultare frequente in un’al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400"/>
                </a:solidFill>
                <a:latin typeface="Symbol"/>
                <a:ea typeface="Symbol"/>
              </a:rPr>
              <a:t></a:t>
            </a:r>
            <a:r>
              <a:rPr b="1" lang="en-US" sz="2800" spc="-1" strike="noStrike">
                <a:solidFill>
                  <a:srgbClr val="ff0400"/>
                </a:solidFill>
                <a:latin typeface="Comic Sans MS"/>
              </a:rPr>
              <a:t>Thalassemia</a:t>
            </a: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16560" y="1219320"/>
            <a:ext cx="914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riginata principalmente da delezioni dei geni alfa: su ogni cromosoma 1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ono presenti 2 copie espresse del gene alfa : la delezione puo’ riguard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una  o due copie, in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is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 in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tra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25280" y="2209680"/>
            <a:ext cx="9119520" cy="1067040"/>
            <a:chOff x="125280" y="2209680"/>
            <a:chExt cx="9119520" cy="1067040"/>
          </a:xfrm>
        </p:grpSpPr>
        <p:sp>
          <p:nvSpPr>
            <p:cNvPr id="235" name=""/>
            <p:cNvSpPr/>
            <p:nvPr/>
          </p:nvSpPr>
          <p:spPr>
            <a:xfrm>
              <a:off x="3195360" y="2209680"/>
              <a:ext cx="42912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125280" y="2260440"/>
              <a:ext cx="9119520" cy="1016280"/>
              <a:chOff x="125280" y="2260440"/>
              <a:chExt cx="9119520" cy="1016280"/>
            </a:xfrm>
          </p:grpSpPr>
          <p:sp>
            <p:nvSpPr>
              <p:cNvPr id="237" name=""/>
              <p:cNvSpPr/>
              <p:nvPr/>
            </p:nvSpPr>
            <p:spPr>
              <a:xfrm>
                <a:off x="2366280" y="2811600"/>
                <a:ext cx="6878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582800" y="2670120"/>
                <a:ext cx="381600" cy="212760"/>
              </a:xfrm>
              <a:prstGeom prst="cube">
                <a:avLst>
                  <a:gd name="adj" fmla="val 250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117400" y="2670120"/>
                <a:ext cx="381600" cy="212760"/>
              </a:xfrm>
              <a:prstGeom prst="cube">
                <a:avLst>
                  <a:gd name="adj" fmla="val 250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805360" y="2670120"/>
                <a:ext cx="381600" cy="212760"/>
              </a:xfrm>
              <a:prstGeom prst="cube">
                <a:avLst>
                  <a:gd name="adj" fmla="val 250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797880" y="2670120"/>
                <a:ext cx="536040" cy="21276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791480" y="2670120"/>
                <a:ext cx="534960" cy="21276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32800" y="2670120"/>
                <a:ext cx="381600" cy="2127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129840" y="2670120"/>
                <a:ext cx="534600" cy="21276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409280" y="2282760"/>
                <a:ext cx="63468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r>
                  <a:rPr b="1" lang="en-US" sz="1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</a:t>
                </a:r>
                <a:r>
                  <a:rPr b="1" lang="en-US" sz="22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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959360" y="2293920"/>
                <a:ext cx="6573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r>
                  <a:rPr b="1" lang="en-US" sz="1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</a:t>
                </a:r>
                <a:r>
                  <a:rPr b="1" lang="en-US" sz="22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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654160" y="2293920"/>
                <a:ext cx="6573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r>
                  <a:rPr b="1" lang="en-US" sz="1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</a:t>
                </a:r>
                <a:r>
                  <a:rPr b="1" lang="en-US" sz="22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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801840" y="2260440"/>
                <a:ext cx="474840" cy="53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6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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801560" y="2260440"/>
                <a:ext cx="474840" cy="53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6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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637120" y="2332080"/>
                <a:ext cx="342000" cy="4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25280" y="2324160"/>
                <a:ext cx="1969920" cy="60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Comic Sans MS"/>
                  </a:rPr>
                  <a:t>Raggruppamento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</a:t>
                </a:r>
                <a:r>
                  <a:rPr b="0" lang="en-US" sz="1700" spc="-1" strike="noStrike">
                    <a:solidFill>
                      <a:srgbClr val="000000"/>
                    </a:solidFill>
                    <a:latin typeface="Comic Sans MS"/>
                  </a:rPr>
                  <a:t> </a:t>
                </a:r>
                <a:r>
                  <a:rPr b="0" lang="en-US" sz="1700" spc="-1" strike="noStrike">
                    <a:solidFill>
                      <a:srgbClr val="000000"/>
                    </a:solidFill>
                    <a:latin typeface="Comic Sans MS"/>
                  </a:rPr>
                  <a:t>16p13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2366280" y="2994120"/>
                <a:ext cx="6878160" cy="282600"/>
                <a:chOff x="2366280" y="2994120"/>
                <a:chExt cx="6878160" cy="28260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2366280" y="3135240"/>
                  <a:ext cx="6878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582800" y="2994120"/>
                  <a:ext cx="381600" cy="2127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117400" y="2994120"/>
                  <a:ext cx="381600" cy="2127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5805000" y="2994120"/>
                  <a:ext cx="381600" cy="2127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6797520" y="2994120"/>
                  <a:ext cx="536040" cy="2127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7791120" y="2994120"/>
                  <a:ext cx="534960" cy="2127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8632440" y="2994120"/>
                  <a:ext cx="381600" cy="212760"/>
                </a:xfrm>
                <a:prstGeom prst="cube">
                  <a:avLst>
                    <a:gd name="adj" fmla="val 25000"/>
                  </a:avLst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129480" y="2994120"/>
                  <a:ext cx="534600" cy="2127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129480" y="3276720"/>
                  <a:ext cx="381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6797520" y="3276720"/>
                  <a:ext cx="383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868880" y="3276720"/>
                  <a:ext cx="381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632440" y="3276720"/>
                  <a:ext cx="381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sysDot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65" name=""/>
          <p:cNvSpPr/>
          <p:nvPr/>
        </p:nvSpPr>
        <p:spPr>
          <a:xfrm>
            <a:off x="348480" y="5715000"/>
            <a:ext cx="789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 genotipi possibili sono 6 e i fenotipi sono diversi a seco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elle combin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33760" y="4267080"/>
            <a:ext cx="70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Viene definito allele  l’insieme dei due geni: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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022400" y="3581280"/>
            <a:ext cx="2476440" cy="506160"/>
            <a:chOff x="1022400" y="3581280"/>
            <a:chExt cx="2476440" cy="506160"/>
          </a:xfrm>
        </p:grpSpPr>
        <p:sp>
          <p:nvSpPr>
            <p:cNvPr id="268" name=""/>
            <p:cNvSpPr/>
            <p:nvPr/>
          </p:nvSpPr>
          <p:spPr>
            <a:xfrm flipV="1">
              <a:off x="1708200" y="3685320"/>
              <a:ext cx="1790640" cy="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804320" y="3581280"/>
              <a:ext cx="371520" cy="156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492640" y="3581280"/>
              <a:ext cx="370080" cy="156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074760" y="3581280"/>
              <a:ext cx="264240" cy="156960"/>
            </a:xfrm>
            <a:prstGeom prst="cube">
              <a:avLst>
                <a:gd name="adj" fmla="val 250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22400" y="4031280"/>
              <a:ext cx="1771200" cy="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099440" y="3930480"/>
              <a:ext cx="371520" cy="156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87760" y="3930480"/>
              <a:ext cx="370440" cy="156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369880" y="3930480"/>
              <a:ext cx="264240" cy="156960"/>
            </a:xfrm>
            <a:prstGeom prst="cube">
              <a:avLst>
                <a:gd name="adj" fmla="val 25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879560" y="3750120"/>
              <a:ext cx="171360" cy="168840"/>
            </a:xfrm>
            <a:prstGeom prst="flowChartCollat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5645160" y="3657600"/>
            <a:ext cx="2361960" cy="433440"/>
            <a:chOff x="5645160" y="3657600"/>
            <a:chExt cx="2361960" cy="433440"/>
          </a:xfrm>
        </p:grpSpPr>
        <p:sp>
          <p:nvSpPr>
            <p:cNvPr id="278" name=""/>
            <p:cNvSpPr/>
            <p:nvPr/>
          </p:nvSpPr>
          <p:spPr>
            <a:xfrm>
              <a:off x="5816520" y="3753720"/>
              <a:ext cx="219060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312960" y="3657600"/>
              <a:ext cx="371520" cy="156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01280" y="3657600"/>
              <a:ext cx="370080" cy="156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83400" y="3657600"/>
              <a:ext cx="264240" cy="156960"/>
            </a:xfrm>
            <a:prstGeom prst="cube">
              <a:avLst>
                <a:gd name="adj" fmla="val 2500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16480" y="4030200"/>
              <a:ext cx="179064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001280" y="3934080"/>
              <a:ext cx="370080" cy="156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83400" y="3934080"/>
              <a:ext cx="264240" cy="156960"/>
            </a:xfrm>
            <a:prstGeom prst="cube">
              <a:avLst>
                <a:gd name="adj" fmla="val 2500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645160" y="3659760"/>
              <a:ext cx="371520" cy="156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4241880" y="3886200"/>
            <a:ext cx="907920" cy="152280"/>
          </a:xfrm>
          <a:custGeom>
            <a:avLst/>
            <a:gdLst>
              <a:gd name="textAreaLeft" fmla="*/ 141840 w 907920"/>
              <a:gd name="textAreaRight" fmla="*/ 794520 w 90792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76840" y="4809960"/>
            <a:ext cx="835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l sud est asiatico sono presenti entrambi i tipi di delezion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entre in Africa e’ praticamente assente l’allele 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400"/>
                </a:solidFill>
                <a:latin typeface="Comic Sans MS"/>
              </a:rPr>
              <a:t>Genotipi e fenotipi nella </a:t>
            </a:r>
            <a:r>
              <a:rPr b="1" lang="en-US" sz="2800" spc="-1" strike="noStrike">
                <a:solidFill>
                  <a:srgbClr val="ff04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ff0400"/>
                </a:solidFill>
                <a:latin typeface="Comic Sans MS"/>
              </a:rPr>
              <a:t>-thalassemia</a:t>
            </a: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289" name=""/>
          <p:cNvSpPr/>
          <p:nvPr/>
        </p:nvSpPr>
        <p:spPr>
          <a:xfrm>
            <a:off x="5400" y="1630440"/>
            <a:ext cx="13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sset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enom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57680" y="2833560"/>
            <a:ext cx="107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. Gen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74600" y="388620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19520" y="498312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em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287720" y="1066680"/>
            <a:ext cx="1436040" cy="4419720"/>
            <a:chOff x="1287720" y="1066680"/>
            <a:chExt cx="1436040" cy="4419720"/>
          </a:xfrm>
        </p:grpSpPr>
        <p:sp>
          <p:nvSpPr>
            <p:cNvPr id="294" name=""/>
            <p:cNvSpPr/>
            <p:nvPr/>
          </p:nvSpPr>
          <p:spPr>
            <a:xfrm>
              <a:off x="1403640" y="1066680"/>
              <a:ext cx="1320120" cy="441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1287720" y="1350720"/>
              <a:ext cx="1392840" cy="4001040"/>
              <a:chOff x="1287720" y="1350720"/>
              <a:chExt cx="1392840" cy="4001040"/>
            </a:xfrm>
          </p:grpSpPr>
          <p:grpSp>
            <p:nvGrpSpPr>
              <p:cNvPr id="296" name=""/>
              <p:cNvGrpSpPr/>
              <p:nvPr/>
            </p:nvGrpSpPr>
            <p:grpSpPr>
              <a:xfrm>
                <a:off x="1289880" y="1350720"/>
                <a:ext cx="1390680" cy="2854080"/>
                <a:chOff x="1289880" y="1350720"/>
                <a:chExt cx="1390680" cy="2854080"/>
              </a:xfrm>
            </p:grpSpPr>
            <p:sp>
              <p:nvSpPr>
                <p:cNvPr id="297" name=""/>
                <p:cNvSpPr/>
                <p:nvPr/>
              </p:nvSpPr>
              <p:spPr>
                <a:xfrm flipV="1">
                  <a:off x="1517400" y="1770120"/>
                  <a:ext cx="111456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1711440" y="1698480"/>
                  <a:ext cx="267840" cy="106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2207520" y="1698480"/>
                  <a:ext cx="266040" cy="106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1626120" y="1350720"/>
                  <a:ext cx="378720" cy="48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4600" rIns="84600" tIns="42480" bIns="42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46000"/>
                      <a:tab algn="l" pos="1692360"/>
                      <a:tab algn="l" pos="2538360"/>
                      <a:tab algn="l" pos="3384720"/>
                      <a:tab algn="l" pos="4230720"/>
                      <a:tab algn="l" pos="5076720"/>
                      <a:tab algn="l" pos="5923080"/>
                      <a:tab algn="l" pos="6769080"/>
                      <a:tab algn="l" pos="7615080"/>
                      <a:tab algn="l" pos="8461440"/>
                      <a:tab algn="l" pos="9307440"/>
                      <a:tab algn="l" pos="10153800"/>
                    </a:tabLst>
                  </a:pPr>
                  <a:r>
                    <a:rPr b="1" lang="en-US" sz="2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125800" y="1350720"/>
                  <a:ext cx="378720" cy="48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4600" rIns="84600" tIns="42480" bIns="42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46000"/>
                      <a:tab algn="l" pos="1692360"/>
                      <a:tab algn="l" pos="2538360"/>
                      <a:tab algn="l" pos="3384720"/>
                      <a:tab algn="l" pos="4230720"/>
                      <a:tab algn="l" pos="5076720"/>
                      <a:tab algn="l" pos="5923080"/>
                      <a:tab algn="l" pos="6769080"/>
                      <a:tab algn="l" pos="7615080"/>
                      <a:tab algn="l" pos="8461440"/>
                      <a:tab algn="l" pos="9307440"/>
                      <a:tab algn="l" pos="10153800"/>
                    </a:tabLst>
                  </a:pPr>
                  <a:r>
                    <a:rPr b="1" lang="en-US" sz="2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1517400" y="2138400"/>
                  <a:ext cx="1114560" cy="6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1711440" y="2076480"/>
                  <a:ext cx="267840" cy="1047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207520" y="2076480"/>
                  <a:ext cx="266040" cy="1047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1604520" y="1728720"/>
                  <a:ext cx="474840" cy="53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4600" rIns="84600" tIns="42480" bIns="42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46000"/>
                      <a:tab algn="l" pos="1692360"/>
                      <a:tab algn="l" pos="2538360"/>
                      <a:tab algn="l" pos="3384720"/>
                      <a:tab algn="l" pos="4230720"/>
                      <a:tab algn="l" pos="5076720"/>
                      <a:tab algn="l" pos="5923080"/>
                      <a:tab algn="l" pos="6769080"/>
                      <a:tab algn="l" pos="7615080"/>
                      <a:tab algn="l" pos="8461440"/>
                      <a:tab algn="l" pos="9307440"/>
                      <a:tab algn="l" pos="10153800"/>
                    </a:tabLst>
                  </a:pPr>
                  <a:r>
                    <a:rPr b="1" lang="en-US" sz="2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1" lang="en-US" sz="2600" spc="-1" strike="noStrike" baseline="-25000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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2106360" y="1728720"/>
                  <a:ext cx="474840" cy="53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4600" rIns="84600" tIns="42480" bIns="42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46000"/>
                      <a:tab algn="l" pos="1692360"/>
                      <a:tab algn="l" pos="2538360"/>
                      <a:tab algn="l" pos="3384720"/>
                      <a:tab algn="l" pos="4230720"/>
                      <a:tab algn="l" pos="5076720"/>
                      <a:tab algn="l" pos="5923080"/>
                      <a:tab algn="l" pos="6769080"/>
                      <a:tab algn="l" pos="7615080"/>
                      <a:tab algn="l" pos="8461440"/>
                      <a:tab algn="l" pos="9307440"/>
                      <a:tab algn="l" pos="10153800"/>
                    </a:tabLst>
                  </a:pPr>
                  <a:r>
                    <a:rPr b="1" lang="en-US" sz="2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1" lang="en-US" sz="2600" spc="-1" strike="noStrike" baseline="-25000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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749600" y="268920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289880" y="3562200"/>
                  <a:ext cx="13906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omozigo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wild-typ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9" name=""/>
              <p:cNvSpPr/>
              <p:nvPr/>
            </p:nvSpPr>
            <p:spPr>
              <a:xfrm>
                <a:off x="1287720" y="4952880"/>
                <a:ext cx="1241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nessun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0" name=""/>
          <p:cNvGrpSpPr/>
          <p:nvPr/>
        </p:nvGrpSpPr>
        <p:grpSpPr>
          <a:xfrm>
            <a:off x="2700000" y="1066680"/>
            <a:ext cx="1371600" cy="4419720"/>
            <a:chOff x="2700000" y="1066680"/>
            <a:chExt cx="1371600" cy="4419720"/>
          </a:xfrm>
        </p:grpSpPr>
        <p:sp>
          <p:nvSpPr>
            <p:cNvPr id="311" name=""/>
            <p:cNvSpPr/>
            <p:nvPr/>
          </p:nvSpPr>
          <p:spPr>
            <a:xfrm>
              <a:off x="2751480" y="1066680"/>
              <a:ext cx="1320120" cy="441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b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2768760" y="1770120"/>
              <a:ext cx="11138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962800" y="1698480"/>
              <a:ext cx="268200" cy="1065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459600" y="1698480"/>
              <a:ext cx="266400" cy="1065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875680" y="1350720"/>
              <a:ext cx="3787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376440" y="1350720"/>
              <a:ext cx="3787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68760" y="2138400"/>
              <a:ext cx="1113840" cy="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962800" y="2076480"/>
              <a:ext cx="268200" cy="1047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854440" y="1728720"/>
              <a:ext cx="47484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001680" y="26892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700000" y="3504960"/>
              <a:ext cx="134964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eterozigo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1 allel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wild ty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55160" y="4964040"/>
              <a:ext cx="78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lie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5441040" y="1066680"/>
            <a:ext cx="1390680" cy="4419720"/>
            <a:chOff x="5441040" y="1066680"/>
            <a:chExt cx="1390680" cy="4419720"/>
          </a:xfrm>
        </p:grpSpPr>
        <p:sp>
          <p:nvSpPr>
            <p:cNvPr id="324" name=""/>
            <p:cNvSpPr/>
            <p:nvPr/>
          </p:nvSpPr>
          <p:spPr>
            <a:xfrm>
              <a:off x="5448240" y="1066680"/>
              <a:ext cx="1320480" cy="441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b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5441040" y="1346040"/>
              <a:ext cx="1390680" cy="4012200"/>
              <a:chOff x="5441040" y="1346040"/>
              <a:chExt cx="1390680" cy="4012200"/>
            </a:xfrm>
          </p:grpSpPr>
          <p:sp>
            <p:nvSpPr>
              <p:cNvPr id="326" name=""/>
              <p:cNvSpPr/>
              <p:nvPr/>
            </p:nvSpPr>
            <p:spPr>
              <a:xfrm flipV="1">
                <a:off x="5448240" y="1764720"/>
                <a:ext cx="1113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642280" y="1693800"/>
                <a:ext cx="267840" cy="1062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554800" y="1346040"/>
                <a:ext cx="378720" cy="4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448240" y="2133360"/>
                <a:ext cx="111348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642280" y="2071440"/>
                <a:ext cx="267840" cy="10476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533560" y="1724040"/>
                <a:ext cx="474840" cy="53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6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680800" y="268452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441040" y="3581280"/>
                <a:ext cx="1390680" cy="79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omozigo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 u="sng">
                    <a:solidFill>
                      <a:srgbClr val="000000"/>
                    </a:solidFill>
                    <a:uFillTx/>
                    <a:latin typeface="Comic Sans MS"/>
                  </a:rPr>
                  <a:t>nessun alle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 u="sng">
                    <a:solidFill>
                      <a:srgbClr val="000000"/>
                    </a:solidFill>
                    <a:uFillTx/>
                    <a:latin typeface="Comic Sans MS"/>
                  </a:rPr>
                  <a:t>wild-type!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533560" y="4959360"/>
                <a:ext cx="78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lie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5" name=""/>
          <p:cNvGrpSpPr/>
          <p:nvPr/>
        </p:nvGrpSpPr>
        <p:grpSpPr>
          <a:xfrm>
            <a:off x="6769080" y="1066680"/>
            <a:ext cx="1525320" cy="4419720"/>
            <a:chOff x="6769080" y="1066680"/>
            <a:chExt cx="1525320" cy="4419720"/>
          </a:xfrm>
        </p:grpSpPr>
        <p:sp>
          <p:nvSpPr>
            <p:cNvPr id="336" name=""/>
            <p:cNvSpPr/>
            <p:nvPr/>
          </p:nvSpPr>
          <p:spPr>
            <a:xfrm>
              <a:off x="6796080" y="1066680"/>
              <a:ext cx="1443240" cy="441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650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6769080" y="1765440"/>
              <a:ext cx="11131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963120" y="1693800"/>
              <a:ext cx="267840" cy="1065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875640" y="1346040"/>
              <a:ext cx="3787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69080" y="2133720"/>
              <a:ext cx="1113120" cy="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001640" y="26845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795360" y="3581280"/>
              <a:ext cx="149904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eterozigo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nessun alle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wild-type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86160" y="4648320"/>
              <a:ext cx="907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gra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Hb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4095360" y="1066680"/>
            <a:ext cx="1349640" cy="4419720"/>
            <a:chOff x="4095360" y="1066680"/>
            <a:chExt cx="1349640" cy="4419720"/>
          </a:xfrm>
        </p:grpSpPr>
        <p:grpSp>
          <p:nvGrpSpPr>
            <p:cNvPr id="345" name=""/>
            <p:cNvGrpSpPr/>
            <p:nvPr/>
          </p:nvGrpSpPr>
          <p:grpSpPr>
            <a:xfrm>
              <a:off x="4100400" y="1066680"/>
              <a:ext cx="1320120" cy="4419720"/>
              <a:chOff x="4100400" y="1066680"/>
              <a:chExt cx="1320120" cy="4419720"/>
            </a:xfrm>
          </p:grpSpPr>
          <p:sp>
            <p:nvSpPr>
              <p:cNvPr id="346" name=""/>
              <p:cNvSpPr/>
              <p:nvPr/>
            </p:nvSpPr>
            <p:spPr>
              <a:xfrm>
                <a:off x="4100400" y="1066680"/>
                <a:ext cx="1320120" cy="44197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b3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4127400" y="1790640"/>
                <a:ext cx="11142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322160" y="1719000"/>
                <a:ext cx="268200" cy="10656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818960" y="1719000"/>
                <a:ext cx="266400" cy="10656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234680" y="1371600"/>
                <a:ext cx="378720" cy="4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735080" y="1371600"/>
                <a:ext cx="378720" cy="4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127400" y="2158920"/>
                <a:ext cx="11142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359600" y="270972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214520" y="4984560"/>
                <a:ext cx="78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lie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4095360" y="3504960"/>
              <a:ext cx="134964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eterozigo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1 allel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wild ty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8280720" y="1066680"/>
            <a:ext cx="1445400" cy="4419720"/>
            <a:chOff x="8280720" y="1066680"/>
            <a:chExt cx="1445400" cy="4419720"/>
          </a:xfrm>
        </p:grpSpPr>
        <p:sp>
          <p:nvSpPr>
            <p:cNvPr id="357" name=""/>
            <p:cNvSpPr/>
            <p:nvPr/>
          </p:nvSpPr>
          <p:spPr>
            <a:xfrm>
              <a:off x="8282160" y="1066680"/>
              <a:ext cx="1443960" cy="441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20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8378280" y="1764720"/>
              <a:ext cx="11142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378280" y="2133360"/>
              <a:ext cx="111420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519040" y="26845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80720" y="3855960"/>
              <a:ext cx="13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mozigo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382240" y="4959360"/>
              <a:ext cx="9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leta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46080" y="5638680"/>
            <a:ext cx="911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lcune forme di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halassemia sono dovute all’instabilita’ dell’mRNA o dell’emoglobin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utazione nel sito di poliadenilazione, perdita del codone di stop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400"/>
                </a:solidFill>
                <a:latin typeface="Comic Sans MS"/>
              </a:rPr>
              <a:t>Possibile progenie dei portatori</a:t>
            </a: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365" name=""/>
          <p:cNvSpPr/>
          <p:nvPr/>
        </p:nvSpPr>
        <p:spPr>
          <a:xfrm>
            <a:off x="360000" y="1523880"/>
            <a:ext cx="113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enoti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311560" y="1376280"/>
            <a:ext cx="1320120" cy="914040"/>
            <a:chOff x="2311560" y="1376280"/>
            <a:chExt cx="1320120" cy="914040"/>
          </a:xfrm>
        </p:grpSpPr>
        <p:sp>
          <p:nvSpPr>
            <p:cNvPr id="367" name=""/>
            <p:cNvSpPr/>
            <p:nvPr/>
          </p:nvSpPr>
          <p:spPr>
            <a:xfrm flipV="1">
              <a:off x="2356200" y="1794960"/>
              <a:ext cx="11134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550240" y="1724040"/>
              <a:ext cx="268200" cy="1062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047040" y="1724040"/>
              <a:ext cx="266400" cy="1062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462400" y="1376280"/>
              <a:ext cx="3787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963880" y="1376280"/>
              <a:ext cx="3787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356200" y="2163600"/>
              <a:ext cx="111348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550240" y="2101680"/>
              <a:ext cx="268200" cy="10512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41880" y="1754280"/>
              <a:ext cx="47484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11560" y="1447920"/>
              <a:ext cx="1320120" cy="838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4100400" y="1397160"/>
            <a:ext cx="1320480" cy="888840"/>
            <a:chOff x="4100400" y="1397160"/>
            <a:chExt cx="1320480" cy="888840"/>
          </a:xfrm>
        </p:grpSpPr>
        <p:sp>
          <p:nvSpPr>
            <p:cNvPr id="377" name=""/>
            <p:cNvSpPr/>
            <p:nvPr/>
          </p:nvSpPr>
          <p:spPr>
            <a:xfrm flipV="1">
              <a:off x="4127400" y="1816200"/>
              <a:ext cx="11145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22160" y="1744560"/>
              <a:ext cx="268200" cy="1065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18960" y="1744560"/>
              <a:ext cx="266760" cy="1065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235040" y="1397160"/>
              <a:ext cx="3787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735440" y="1397160"/>
              <a:ext cx="3787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127400" y="2184480"/>
              <a:ext cx="1114560" cy="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100400" y="1447920"/>
              <a:ext cx="1320480" cy="838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6026040" y="1371600"/>
            <a:ext cx="1320480" cy="914400"/>
            <a:chOff x="6026040" y="1371600"/>
            <a:chExt cx="1320480" cy="914400"/>
          </a:xfrm>
        </p:grpSpPr>
        <p:sp>
          <p:nvSpPr>
            <p:cNvPr id="385" name=""/>
            <p:cNvSpPr/>
            <p:nvPr/>
          </p:nvSpPr>
          <p:spPr>
            <a:xfrm flipV="1">
              <a:off x="6122160" y="1790280"/>
              <a:ext cx="11142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16560" y="1719360"/>
              <a:ext cx="268200" cy="1062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229080" y="1371600"/>
              <a:ext cx="3787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122160" y="2158920"/>
              <a:ext cx="111420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316560" y="2097000"/>
              <a:ext cx="268200" cy="1047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207840" y="1749600"/>
              <a:ext cx="47484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026040" y="1447920"/>
              <a:ext cx="1320480" cy="838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8007480" y="1371600"/>
            <a:ext cx="1320480" cy="914400"/>
            <a:chOff x="8007480" y="1371600"/>
            <a:chExt cx="1320480" cy="914400"/>
          </a:xfrm>
        </p:grpSpPr>
        <p:sp>
          <p:nvSpPr>
            <p:cNvPr id="393" name=""/>
            <p:cNvSpPr/>
            <p:nvPr/>
          </p:nvSpPr>
          <p:spPr>
            <a:xfrm flipV="1">
              <a:off x="8020800" y="1790280"/>
              <a:ext cx="11142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215200" y="1719360"/>
              <a:ext cx="268200" cy="1062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148960" y="1371600"/>
              <a:ext cx="3787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020800" y="2158920"/>
              <a:ext cx="111420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007480" y="1447920"/>
              <a:ext cx="1320480" cy="838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2895120" y="2209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360320" y="2209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335280" y="2209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324280" y="2209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 Hb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1403280" y="2895480"/>
            <a:ext cx="1650240" cy="1327320"/>
            <a:chOff x="1403280" y="2895480"/>
            <a:chExt cx="1650240" cy="1327320"/>
          </a:xfrm>
        </p:grpSpPr>
        <p:grpSp>
          <p:nvGrpSpPr>
            <p:cNvPr id="403" name=""/>
            <p:cNvGrpSpPr/>
            <p:nvPr/>
          </p:nvGrpSpPr>
          <p:grpSpPr>
            <a:xfrm>
              <a:off x="1403280" y="2895480"/>
              <a:ext cx="1650240" cy="1327320"/>
              <a:chOff x="1403280" y="2895480"/>
              <a:chExt cx="1650240" cy="1327320"/>
            </a:xfrm>
          </p:grpSpPr>
          <p:grpSp>
            <p:nvGrpSpPr>
              <p:cNvPr id="404" name=""/>
              <p:cNvGrpSpPr/>
              <p:nvPr/>
            </p:nvGrpSpPr>
            <p:grpSpPr>
              <a:xfrm>
                <a:off x="1485720" y="2895480"/>
                <a:ext cx="1300680" cy="870120"/>
                <a:chOff x="1485720" y="2895480"/>
                <a:chExt cx="1300680" cy="870120"/>
              </a:xfrm>
            </p:grpSpPr>
            <p:sp>
              <p:nvSpPr>
                <p:cNvPr id="405" name=""/>
                <p:cNvSpPr/>
                <p:nvPr/>
              </p:nvSpPr>
              <p:spPr>
                <a:xfrm flipV="1">
                  <a:off x="1485720" y="3274920"/>
                  <a:ext cx="130068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1710360" y="3186000"/>
                  <a:ext cx="314280" cy="13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293200" y="3186000"/>
                  <a:ext cx="309240" cy="13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1699200" y="2895480"/>
                  <a:ext cx="33012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4600" rIns="84600" tIns="42480" bIns="42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46000"/>
                      <a:tab algn="l" pos="1692360"/>
                      <a:tab algn="l" pos="2538360"/>
                      <a:tab algn="l" pos="3384720"/>
                      <a:tab algn="l" pos="4230720"/>
                      <a:tab algn="l" pos="5076720"/>
                      <a:tab algn="l" pos="5923080"/>
                      <a:tab algn="l" pos="6769080"/>
                      <a:tab algn="l" pos="7615080"/>
                      <a:tab algn="l" pos="8461440"/>
                      <a:tab algn="l" pos="9307440"/>
                      <a:tab algn="l" pos="101538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283840" y="2895480"/>
                  <a:ext cx="33012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4600" rIns="84600" tIns="42480" bIns="42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46000"/>
                      <a:tab algn="l" pos="1692360"/>
                      <a:tab algn="l" pos="2538360"/>
                      <a:tab algn="l" pos="3384720"/>
                      <a:tab algn="l" pos="4230720"/>
                      <a:tab algn="l" pos="5076720"/>
                      <a:tab algn="l" pos="5923080"/>
                      <a:tab algn="l" pos="6769080"/>
                      <a:tab algn="l" pos="7615080"/>
                      <a:tab algn="l" pos="8461440"/>
                      <a:tab algn="l" pos="9307440"/>
                      <a:tab algn="l" pos="101538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flipV="1">
                  <a:off x="1485720" y="3720600"/>
                  <a:ext cx="13006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1710360" y="3630600"/>
                  <a:ext cx="314280" cy="135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293200" y="3630600"/>
                  <a:ext cx="309240" cy="135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1666440" y="3352680"/>
                  <a:ext cx="33012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4600" rIns="84600" tIns="42480" bIns="42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46000"/>
                      <a:tab algn="l" pos="1692360"/>
                      <a:tab algn="l" pos="2538360"/>
                      <a:tab algn="l" pos="3384720"/>
                      <a:tab algn="l" pos="4230720"/>
                      <a:tab algn="l" pos="5076720"/>
                      <a:tab algn="l" pos="5923080"/>
                      <a:tab algn="l" pos="6769080"/>
                      <a:tab algn="l" pos="7615080"/>
                      <a:tab algn="l" pos="8461440"/>
                      <a:tab algn="l" pos="9307440"/>
                      <a:tab algn="l" pos="101538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251080" y="3352680"/>
                  <a:ext cx="33012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4600" rIns="84600" tIns="42480" bIns="42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46000"/>
                      <a:tab algn="l" pos="1692360"/>
                      <a:tab algn="l" pos="2538360"/>
                      <a:tab algn="l" pos="3384720"/>
                      <a:tab algn="l" pos="4230720"/>
                      <a:tab algn="l" pos="5076720"/>
                      <a:tab algn="l" pos="5923080"/>
                      <a:tab algn="l" pos="6769080"/>
                      <a:tab algn="l" pos="7615080"/>
                      <a:tab algn="l" pos="8461440"/>
                      <a:tab algn="l" pos="9307440"/>
                      <a:tab algn="l" pos="101538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1403280" y="2927520"/>
                <a:ext cx="1650240" cy="12952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1575000" y="3740040"/>
              <a:ext cx="114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norma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3219480" y="2895480"/>
            <a:ext cx="1573560" cy="1299240"/>
            <a:chOff x="3219480" y="2895480"/>
            <a:chExt cx="1573560" cy="1299240"/>
          </a:xfrm>
        </p:grpSpPr>
        <p:grpSp>
          <p:nvGrpSpPr>
            <p:cNvPr id="418" name=""/>
            <p:cNvGrpSpPr/>
            <p:nvPr/>
          </p:nvGrpSpPr>
          <p:grpSpPr>
            <a:xfrm>
              <a:off x="3362040" y="2895480"/>
              <a:ext cx="1320480" cy="878040"/>
              <a:chOff x="3362040" y="2895480"/>
              <a:chExt cx="1320480" cy="878040"/>
            </a:xfrm>
          </p:grpSpPr>
          <p:sp>
            <p:nvSpPr>
              <p:cNvPr id="419" name=""/>
              <p:cNvSpPr/>
              <p:nvPr/>
            </p:nvSpPr>
            <p:spPr>
              <a:xfrm flipV="1">
                <a:off x="3362040" y="3279240"/>
                <a:ext cx="130140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587400" y="3188880"/>
                <a:ext cx="312480" cy="1350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170240" y="3188880"/>
                <a:ext cx="309240" cy="1350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575880" y="2895480"/>
                <a:ext cx="33012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160880" y="2895480"/>
                <a:ext cx="33012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381120" y="3703320"/>
                <a:ext cx="13014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606120" y="3624120"/>
                <a:ext cx="312840" cy="1332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545280" y="3341520"/>
                <a:ext cx="40464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3219480" y="2946240"/>
              <a:ext cx="1573560" cy="1248480"/>
              <a:chOff x="3219480" y="2946240"/>
              <a:chExt cx="1573560" cy="1248480"/>
            </a:xfrm>
          </p:grpSpPr>
          <p:sp>
            <p:nvSpPr>
              <p:cNvPr id="428" name=""/>
              <p:cNvSpPr/>
              <p:nvPr/>
            </p:nvSpPr>
            <p:spPr>
              <a:xfrm>
                <a:off x="3219480" y="2946240"/>
                <a:ext cx="1567800" cy="12448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248280" y="3648240"/>
                <a:ext cx="1544760" cy="54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tratto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talassem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0" name=""/>
          <p:cNvGrpSpPr/>
          <p:nvPr/>
        </p:nvGrpSpPr>
        <p:grpSpPr>
          <a:xfrm>
            <a:off x="5151240" y="2895480"/>
            <a:ext cx="1639080" cy="1295640"/>
            <a:chOff x="5151240" y="2895480"/>
            <a:chExt cx="1639080" cy="1295640"/>
          </a:xfrm>
        </p:grpSpPr>
        <p:sp>
          <p:nvSpPr>
            <p:cNvPr id="431" name=""/>
            <p:cNvSpPr/>
            <p:nvPr/>
          </p:nvSpPr>
          <p:spPr>
            <a:xfrm>
              <a:off x="5200560" y="2946240"/>
              <a:ext cx="1568160" cy="1244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5151240" y="2895480"/>
              <a:ext cx="1639080" cy="1130400"/>
              <a:chOff x="5151240" y="2895480"/>
              <a:chExt cx="1639080" cy="113040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5301720" y="2895480"/>
                <a:ext cx="1301040" cy="811080"/>
                <a:chOff x="5301720" y="2895480"/>
                <a:chExt cx="1301040" cy="811080"/>
              </a:xfrm>
            </p:grpSpPr>
            <p:sp>
              <p:nvSpPr>
                <p:cNvPr id="434" name=""/>
                <p:cNvSpPr/>
                <p:nvPr/>
              </p:nvSpPr>
              <p:spPr>
                <a:xfrm flipV="1">
                  <a:off x="5301720" y="3279240"/>
                  <a:ext cx="130104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5528520" y="3188880"/>
                  <a:ext cx="312480" cy="135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6109200" y="3188880"/>
                  <a:ext cx="311400" cy="135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5515200" y="2895480"/>
                  <a:ext cx="33012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4600" rIns="84600" tIns="42480" bIns="42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46000"/>
                      <a:tab algn="l" pos="1692360"/>
                      <a:tab algn="l" pos="2538360"/>
                      <a:tab algn="l" pos="3384720"/>
                      <a:tab algn="l" pos="4230720"/>
                      <a:tab algn="l" pos="5076720"/>
                      <a:tab algn="l" pos="5923080"/>
                      <a:tab algn="l" pos="6769080"/>
                      <a:tab algn="l" pos="7615080"/>
                      <a:tab algn="l" pos="8461440"/>
                      <a:tab algn="l" pos="9307440"/>
                      <a:tab algn="l" pos="101538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6100200" y="2895480"/>
                  <a:ext cx="33012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4600" rIns="84600" tIns="42480" bIns="42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46000"/>
                      <a:tab algn="l" pos="1692360"/>
                      <a:tab algn="l" pos="2538360"/>
                      <a:tab algn="l" pos="3384720"/>
                      <a:tab algn="l" pos="4230720"/>
                      <a:tab algn="l" pos="5076720"/>
                      <a:tab algn="l" pos="5923080"/>
                      <a:tab algn="l" pos="6769080"/>
                      <a:tab algn="l" pos="7615080"/>
                      <a:tab algn="l" pos="8461440"/>
                      <a:tab algn="l" pos="9307440"/>
                      <a:tab algn="l" pos="101538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5301720" y="3698640"/>
                  <a:ext cx="1301040" cy="7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0" name=""/>
              <p:cNvSpPr/>
              <p:nvPr/>
            </p:nvSpPr>
            <p:spPr>
              <a:xfrm>
                <a:off x="5151240" y="3657600"/>
                <a:ext cx="163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nemia liev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1" name=""/>
          <p:cNvGrpSpPr/>
          <p:nvPr/>
        </p:nvGrpSpPr>
        <p:grpSpPr>
          <a:xfrm>
            <a:off x="7099200" y="2870280"/>
            <a:ext cx="1568160" cy="1320840"/>
            <a:chOff x="7099200" y="2870280"/>
            <a:chExt cx="1568160" cy="1320840"/>
          </a:xfrm>
        </p:grpSpPr>
        <p:grpSp>
          <p:nvGrpSpPr>
            <p:cNvPr id="442" name=""/>
            <p:cNvGrpSpPr/>
            <p:nvPr/>
          </p:nvGrpSpPr>
          <p:grpSpPr>
            <a:xfrm>
              <a:off x="7153920" y="2870280"/>
              <a:ext cx="1349640" cy="811080"/>
              <a:chOff x="7153920" y="2870280"/>
              <a:chExt cx="1349640" cy="811080"/>
            </a:xfrm>
          </p:grpSpPr>
          <p:sp>
            <p:nvSpPr>
              <p:cNvPr id="443" name=""/>
              <p:cNvSpPr/>
              <p:nvPr/>
            </p:nvSpPr>
            <p:spPr>
              <a:xfrm>
                <a:off x="7201800" y="3243240"/>
                <a:ext cx="130176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430760" y="3163680"/>
                <a:ext cx="312840" cy="13356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400880" y="2870280"/>
                <a:ext cx="40464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7153920" y="3673440"/>
                <a:ext cx="130140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7099200" y="2946240"/>
              <a:ext cx="1568160" cy="1244880"/>
            </a:xfrm>
            <a:prstGeom prst="rect">
              <a:avLst/>
            </a:prstGeom>
            <a:noFill/>
            <a:ln w="28440">
              <a:solidFill>
                <a:srgbClr val="8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426800" y="370368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Hb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2833920" y="4952880"/>
            <a:ext cx="1706040" cy="1295640"/>
            <a:chOff x="2833920" y="4952880"/>
            <a:chExt cx="1706040" cy="1295640"/>
          </a:xfrm>
        </p:grpSpPr>
        <p:sp>
          <p:nvSpPr>
            <p:cNvPr id="450" name=""/>
            <p:cNvSpPr/>
            <p:nvPr/>
          </p:nvSpPr>
          <p:spPr>
            <a:xfrm>
              <a:off x="2971080" y="5003640"/>
              <a:ext cx="1568880" cy="1244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833920" y="5791320"/>
              <a:ext cx="163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anemia lie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3053880" y="4952880"/>
              <a:ext cx="1320480" cy="878040"/>
              <a:chOff x="3053880" y="4952880"/>
              <a:chExt cx="1320480" cy="878040"/>
            </a:xfrm>
          </p:grpSpPr>
          <p:sp>
            <p:nvSpPr>
              <p:cNvPr id="453" name=""/>
              <p:cNvSpPr/>
              <p:nvPr/>
            </p:nvSpPr>
            <p:spPr>
              <a:xfrm flipV="1">
                <a:off x="3053880" y="5336640"/>
                <a:ext cx="130140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279240" y="5246280"/>
                <a:ext cx="312480" cy="1350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267720" y="4952880"/>
                <a:ext cx="33012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072960" y="5760720"/>
                <a:ext cx="13014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297960" y="5681520"/>
                <a:ext cx="312840" cy="1332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237120" y="5398920"/>
                <a:ext cx="40464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9" name=""/>
          <p:cNvGrpSpPr/>
          <p:nvPr/>
        </p:nvGrpSpPr>
        <p:grpSpPr>
          <a:xfrm>
            <a:off x="6273720" y="4952880"/>
            <a:ext cx="1573920" cy="1298880"/>
            <a:chOff x="6273720" y="4952880"/>
            <a:chExt cx="1573920" cy="1298880"/>
          </a:xfrm>
        </p:grpSpPr>
        <p:grpSp>
          <p:nvGrpSpPr>
            <p:cNvPr id="460" name=""/>
            <p:cNvGrpSpPr/>
            <p:nvPr/>
          </p:nvGrpSpPr>
          <p:grpSpPr>
            <a:xfrm>
              <a:off x="6416280" y="4952880"/>
              <a:ext cx="1320480" cy="878040"/>
              <a:chOff x="6416280" y="4952880"/>
              <a:chExt cx="1320480" cy="878040"/>
            </a:xfrm>
          </p:grpSpPr>
          <p:sp>
            <p:nvSpPr>
              <p:cNvPr id="461" name=""/>
              <p:cNvSpPr/>
              <p:nvPr/>
            </p:nvSpPr>
            <p:spPr>
              <a:xfrm flipV="1">
                <a:off x="6416280" y="5336640"/>
                <a:ext cx="130140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641640" y="5246280"/>
                <a:ext cx="312480" cy="1350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224480" y="5246280"/>
                <a:ext cx="309240" cy="1350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30120" y="4952880"/>
                <a:ext cx="33012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215120" y="4952880"/>
                <a:ext cx="33012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435360" y="5760720"/>
                <a:ext cx="13014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660360" y="5681520"/>
                <a:ext cx="312840" cy="1332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599520" y="5398920"/>
                <a:ext cx="40464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9" name=""/>
            <p:cNvSpPr/>
            <p:nvPr/>
          </p:nvSpPr>
          <p:spPr>
            <a:xfrm>
              <a:off x="6273720" y="5003640"/>
              <a:ext cx="1568160" cy="1244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302880" y="5705280"/>
              <a:ext cx="1544760" cy="54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tratt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talassem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8089920" y="4927680"/>
            <a:ext cx="1568160" cy="1320840"/>
            <a:chOff x="8089920" y="4927680"/>
            <a:chExt cx="1568160" cy="1320840"/>
          </a:xfrm>
        </p:grpSpPr>
        <p:grpSp>
          <p:nvGrpSpPr>
            <p:cNvPr id="472" name=""/>
            <p:cNvGrpSpPr/>
            <p:nvPr/>
          </p:nvGrpSpPr>
          <p:grpSpPr>
            <a:xfrm>
              <a:off x="8144640" y="4927680"/>
              <a:ext cx="1349640" cy="811080"/>
              <a:chOff x="8144640" y="4927680"/>
              <a:chExt cx="1349640" cy="811080"/>
            </a:xfrm>
          </p:grpSpPr>
          <p:sp>
            <p:nvSpPr>
              <p:cNvPr id="473" name=""/>
              <p:cNvSpPr/>
              <p:nvPr/>
            </p:nvSpPr>
            <p:spPr>
              <a:xfrm>
                <a:off x="8192520" y="5300640"/>
                <a:ext cx="130176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421480" y="5221080"/>
                <a:ext cx="312840" cy="13356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391600" y="4927680"/>
                <a:ext cx="40464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8144640" y="5730840"/>
                <a:ext cx="130140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8089920" y="5003640"/>
              <a:ext cx="1568160" cy="1244880"/>
            </a:xfrm>
            <a:prstGeom prst="rect">
              <a:avLst/>
            </a:prstGeom>
            <a:noFill/>
            <a:ln w="28440">
              <a:solidFill>
                <a:srgbClr val="8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417520" y="576108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Hb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82440" y="2666880"/>
            <a:ext cx="9080280" cy="1905120"/>
            <a:chOff x="82440" y="2666880"/>
            <a:chExt cx="9080280" cy="1905120"/>
          </a:xfrm>
        </p:grpSpPr>
        <p:sp>
          <p:nvSpPr>
            <p:cNvPr id="480" name=""/>
            <p:cNvSpPr/>
            <p:nvPr/>
          </p:nvSpPr>
          <p:spPr>
            <a:xfrm>
              <a:off x="303480" y="3200400"/>
              <a:ext cx="75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1 x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2440" y="2666880"/>
              <a:ext cx="9080280" cy="1905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82440" y="4800600"/>
            <a:ext cx="4870080" cy="1676520"/>
            <a:chOff x="82440" y="4800600"/>
            <a:chExt cx="4870080" cy="1676520"/>
          </a:xfrm>
        </p:grpSpPr>
        <p:sp>
          <p:nvSpPr>
            <p:cNvPr id="483" name=""/>
            <p:cNvSpPr/>
            <p:nvPr/>
          </p:nvSpPr>
          <p:spPr>
            <a:xfrm>
              <a:off x="215280" y="5334120"/>
              <a:ext cx="69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1 x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2440" y="4800600"/>
              <a:ext cx="4870080" cy="1676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5283360" y="4800600"/>
            <a:ext cx="4554000" cy="1676520"/>
            <a:chOff x="5283360" y="4800600"/>
            <a:chExt cx="4554000" cy="1676520"/>
          </a:xfrm>
        </p:grpSpPr>
        <p:sp>
          <p:nvSpPr>
            <p:cNvPr id="486" name=""/>
            <p:cNvSpPr/>
            <p:nvPr/>
          </p:nvSpPr>
          <p:spPr>
            <a:xfrm>
              <a:off x="5334120" y="5410080"/>
              <a:ext cx="69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2 x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283360" y="4800600"/>
              <a:ext cx="4554000" cy="1676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1073160" y="4876920"/>
            <a:ext cx="1573920" cy="1298880"/>
            <a:chOff x="1073160" y="4876920"/>
            <a:chExt cx="1573920" cy="1298880"/>
          </a:xfrm>
        </p:grpSpPr>
        <p:grpSp>
          <p:nvGrpSpPr>
            <p:cNvPr id="489" name=""/>
            <p:cNvGrpSpPr/>
            <p:nvPr/>
          </p:nvGrpSpPr>
          <p:grpSpPr>
            <a:xfrm>
              <a:off x="1215720" y="4876920"/>
              <a:ext cx="1320480" cy="878040"/>
              <a:chOff x="1215720" y="4876920"/>
              <a:chExt cx="1320480" cy="878040"/>
            </a:xfrm>
          </p:grpSpPr>
          <p:sp>
            <p:nvSpPr>
              <p:cNvPr id="490" name=""/>
              <p:cNvSpPr/>
              <p:nvPr/>
            </p:nvSpPr>
            <p:spPr>
              <a:xfrm flipV="1">
                <a:off x="1215720" y="5260680"/>
                <a:ext cx="130140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441080" y="5170320"/>
                <a:ext cx="312480" cy="1350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023920" y="5170320"/>
                <a:ext cx="309240" cy="1350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429560" y="4876920"/>
                <a:ext cx="33012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014560" y="4876920"/>
                <a:ext cx="33012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234800" y="5684760"/>
                <a:ext cx="13014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459800" y="5605560"/>
                <a:ext cx="312840" cy="1332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398960" y="5322960"/>
                <a:ext cx="40464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8" name=""/>
            <p:cNvSpPr/>
            <p:nvPr/>
          </p:nvSpPr>
          <p:spPr>
            <a:xfrm>
              <a:off x="1073160" y="4927680"/>
              <a:ext cx="1568160" cy="1244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102320" y="5629320"/>
              <a:ext cx="1544760" cy="54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tratt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talassem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8T13:04:24Z</dcterms:created>
  <dc:creator>Rocchi</dc:creator>
  <dc:description/>
  <dc:language>en-US</dc:language>
  <cp:lastModifiedBy>Mariano Rocchi</cp:lastModifiedBy>
  <cp:lastPrinted>2004-05-17T09:37:23Z</cp:lastPrinted>
  <dcterms:modified xsi:type="dcterms:W3CDTF">2004-06-06T16:17:57Z</dcterms:modified>
  <cp:revision>379</cp:revision>
  <dc:subject/>
  <dc:title>PowerPoint Presentation</dc:title>
</cp:coreProperties>
</file>